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555-2146-455E-ADC8-53EABEAC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838-FD01-4ED4-84D3-BB50358335F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7520" y="4711680"/>
            <a:ext cx="5592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735-38D6-4608-9D94-57CE9BB1ED4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66480" y="4525920"/>
            <a:ext cx="61196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C28-E39B-451F-9257-E4627A12BE3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737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B0DF-FA74-48AA-8A2E-9F3CDF5E4E8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0DFC-A68F-4DCC-9372-2B6FDCE4EE2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F4E-43C8-4A29-9441-D79568BA40B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B06-BC32-4DFD-9547-00F04AFDED6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B0A-640E-4D16-8E8E-7983DB1480E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7880" y="4598640"/>
            <a:ext cx="56656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hgfh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3AA-240F-404B-B799-5A6AEE1EF10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7880" y="4598640"/>
            <a:ext cx="56656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hgfh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59A5-01A6-440F-ABDA-E3D92E2EA01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42C-B121-431C-8C5E-179506A1766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BCA2-B038-433C-9A20-78FCD05232A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22A3-1AEB-4A2F-BA8A-B12809C18BC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11AF-8F73-4DD2-B576-30FB6802EBC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C7B-9749-4F96-ABB9-772D2CC2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FAC-2EF4-445A-B43E-7A53A045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AB8-9029-45E6-8194-2F84830A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9FD-16AA-48FC-A4AA-5D11069B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35CD-5ACE-426F-9EAF-7C5C7733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6B85-41ED-4397-B1E1-4961050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74D1-A481-4118-B198-A3B1450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1AC-793F-4223-9BF7-4A68895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601B-051C-458D-88D2-038E125F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2C80-8E3C-4579-AD91-53F8251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1775-3644-43EC-A207-08B4B82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34E-B7E0-4151-9BB2-A760FB5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84C-666E-4ECB-B106-E18528E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A43C-AA08-4AB1-91AA-54BA811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360-F4EA-464B-B083-D4675A6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15AE-A092-4514-9008-5CCAFCF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D58B-5E84-45C5-AA40-AD1FA0ED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2D2-85B9-4FBF-A383-D7EC060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630-CDC3-4DC9-98CB-739FF3B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51B-DF0A-4C75-9594-6AF2AC7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4D6-C177-46F4-9B4B-FA53AAF2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CFB-52F9-415A-A389-0D97FEF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EDF-3DF0-4198-960B-90F0CEC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F98-4F4B-46E2-AE71-B7D80FB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eaeaea"/>
                </a:solidFill>
                <a:latin typeface="Verdana"/>
              </a:rPr>
              <a:t>INSTITUTUL NAŢIONAL DE STATISTICĂ - ROM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09B1-B329-4BD1-8F90-016835E09A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104-45F6-4081-9522-EA993505C2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ANCHETE </a:t>
            </a:r>
            <a:r>
              <a:rPr b="1" lang="ro-RO" sz="4400" spc="-1" strike="noStrike">
                <a:solidFill>
                  <a:srgbClr val="eaeaea"/>
                </a:solidFill>
                <a:latin typeface="Verdana"/>
              </a:rPr>
              <a:t>S</a:t>
            </a: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TRUCTURALE </a:t>
            </a:r>
            <a:r>
              <a:rPr b="1" lang="ro-RO" sz="4400" spc="-1" strike="noStrike">
                <a:solidFill>
                  <a:srgbClr val="eaeaea"/>
                </a:solidFill>
                <a:latin typeface="Verdana"/>
              </a:rPr>
              <a:t>             Î</a:t>
            </a: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N AGRICULTUR</a:t>
            </a:r>
            <a:r>
              <a:rPr b="1" lang="ro-RO" sz="4400" spc="-1" strike="noStrike">
                <a:solidFill>
                  <a:srgbClr val="eaeaea"/>
                </a:solidFill>
                <a:latin typeface="Verdana"/>
              </a:rPr>
              <a:t>Ă</a:t>
            </a: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o-RO" sz="4400" spc="-1" strike="noStrike">
                <a:solidFill>
                  <a:srgbClr val="eaeaea"/>
                </a:solidFill>
                <a:latin typeface="Verdana"/>
              </a:rPr>
              <a:t>DESFĂŞURATE ÎN ROMÂNI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176720"/>
            <a:ext cx="2971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Verdana"/>
              </a:rPr>
              <a:t>AUTORI: MARIANA CLIPCE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ro-RO" sz="1400" spc="-1" strike="noStrike">
                <a:solidFill>
                  <a:srgbClr val="eaeaea"/>
                </a:solidFill>
                <a:latin typeface="Verdana"/>
              </a:rPr>
              <a:t>BOGDAN GAVRIL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653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eaeaea"/>
                </a:solidFill>
                <a:latin typeface="Verdana"/>
              </a:rPr>
              <a:t>17-18 IUNIE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2015 – </a:t>
            </a:r>
            <a:r>
              <a:rPr b="1" lang="ro-RO" sz="1800" spc="-1" strike="noStrike">
                <a:solidFill>
                  <a:srgbClr val="eaeaea"/>
                </a:solidFill>
                <a:latin typeface="Verdana"/>
              </a:rPr>
              <a:t>CHIŞINĂU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Raport Metodologic Na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ional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rea calit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i datelor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analiza unitar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a indicatorilor la nivel U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a abord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lor unitare a metodologiei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scopul asigur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i comparabilit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i datelor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UT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Managementul calităţii – estimar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Relevanţă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curateţe şi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edibili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Promptitudine şi punctuali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ccesibilitate şi clari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omparabili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oerenţă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ost ş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carea reponden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or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den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ali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lucrarea datelor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entarii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tad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exe (Eroarea standard, aplicabilitatea cerin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or de precizie,     chestionar, lista caraceristicilor inexistente)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NUMĂR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EXPLOATAŢII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OR AGRIC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6588000" y="1555920"/>
            <a:ext cx="15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mii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989000"/>
          <a:ext cx="8229240" cy="4199040"/>
        </p:xfrm>
        <a:graphic>
          <a:graphicData uri="http://schemas.openxmlformats.org/drawingml/2006/table">
            <a:tbl>
              <a:tblPr/>
              <a:tblGrid>
                <a:gridCol w="2056680"/>
                <a:gridCol w="2058840"/>
                <a:gridCol w="2057040"/>
                <a:gridCol w="2056680"/>
              </a:tblGrid>
              <a:tr h="1440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exploataţii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fără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cu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48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46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25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2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9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9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85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8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6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6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2040" y="260280"/>
            <a:ext cx="8228160" cy="133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SUPRAFAŢA AGRICOLĂ UTILIZATĂ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SAU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6400800" y="162252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mii hectare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133720"/>
          <a:ext cx="8229240" cy="4128840"/>
        </p:xfrm>
        <a:graphic>
          <a:graphicData uri="http://schemas.openxmlformats.org/drawingml/2006/table">
            <a:tbl>
              <a:tblPr/>
              <a:tblGrid>
                <a:gridCol w="2056680"/>
                <a:gridCol w="2058840"/>
                <a:gridCol w="2057040"/>
                <a:gridCol w="2056680"/>
              </a:tblGrid>
              <a:tr h="136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exploataţii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fără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cu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9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70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62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9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91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80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75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9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78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30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4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585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05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27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578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040" y="259920"/>
            <a:ext cx="822816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SUPRAFAŢA AGRICOLĂ UTILIZATĂ     ÎN MEDIE PE O EXPLOATAŢIE AGRICOL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7013520" y="14479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hectare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11120" y="1922400"/>
          <a:ext cx="8229240" cy="4202280"/>
        </p:xfrm>
        <a:graphic>
          <a:graphicData uri="http://schemas.openxmlformats.org/drawingml/2006/table">
            <a:tbl>
              <a:tblPr/>
              <a:tblGrid>
                <a:gridCol w="2057040"/>
                <a:gridCol w="2058480"/>
                <a:gridCol w="2057040"/>
                <a:gridCol w="2056680"/>
              </a:tblGrid>
              <a:tr h="1440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exploataţii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fără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cu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,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,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74,4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,2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,1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63,0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,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,2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70,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,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,9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90,7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,6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,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07</a:t>
                      </a: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2040" y="115560"/>
            <a:ext cx="822816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SUPRAFAŢA AGRI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OL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Ă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 UTILI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ATĂ 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E PRINCIPALELE CATEGORII DE FOLOSINŢĂ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629400" y="144792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mii hectare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17520" y="1916280"/>
          <a:ext cx="8583120" cy="4314600"/>
        </p:xfrm>
        <a:graphic>
          <a:graphicData uri="http://schemas.openxmlformats.org/drawingml/2006/table">
            <a:tbl>
              <a:tblPr/>
              <a:tblGrid>
                <a:gridCol w="2387880"/>
                <a:gridCol w="1344240"/>
                <a:gridCol w="1344240"/>
                <a:gridCol w="1341360"/>
                <a:gridCol w="1120680"/>
                <a:gridCol w="1044720"/>
              </a:tblGrid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odul de utilizare/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SAU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93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9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75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30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05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Teren arabi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77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86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69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3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1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Păşuni şi fâneţ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64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5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54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50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3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Culturi permanen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4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3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4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1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Grădini familia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6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7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7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8</a:t>
                      </a:r>
                      <a:r>
                        <a:rPr b="1" lang="ro-RO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5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040" y="259920"/>
            <a:ext cx="822816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TEREN ARABI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6172200" y="146052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mii hectare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11120" y="1922400"/>
          <a:ext cx="8229240" cy="4202280"/>
        </p:xfrm>
        <a:graphic>
          <a:graphicData uri="http://schemas.openxmlformats.org/drawingml/2006/table">
            <a:tbl>
              <a:tblPr/>
              <a:tblGrid>
                <a:gridCol w="2057040"/>
                <a:gridCol w="2058480"/>
                <a:gridCol w="2057040"/>
                <a:gridCol w="2056680"/>
              </a:tblGrid>
              <a:tr h="1440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exploataţii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fără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 cu personalitate jurid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77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54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3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86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628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58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69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60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6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30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7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58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3f5a3e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19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55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64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2040" y="259920"/>
            <a:ext cx="822816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EFECTIVE DE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NIMAL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7010280" y="141444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 mii capete</a:t>
            </a:r>
            <a:r>
              <a:rPr b="0" lang="ro-RO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11120" y="1922400"/>
          <a:ext cx="8489520" cy="4170600"/>
        </p:xfrm>
        <a:graphic>
          <a:graphicData uri="http://schemas.openxmlformats.org/drawingml/2006/table">
            <a:tbl>
              <a:tblPr/>
              <a:tblGrid>
                <a:gridCol w="1920600"/>
                <a:gridCol w="1344240"/>
                <a:gridCol w="1343160"/>
                <a:gridCol w="1268640"/>
                <a:gridCol w="1418400"/>
                <a:gridCol w="1194480"/>
              </a:tblGrid>
              <a:tr h="92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pecia/Ani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Bovi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87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7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73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99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93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49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orci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26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93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70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53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23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Ovi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2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60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5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4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9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49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apri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8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7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2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13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49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</a:t>
                      </a:r>
                      <a:r>
                        <a:rPr b="1" lang="ro-RO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ăsăr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24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17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585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919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63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2240" y="259920"/>
            <a:ext cx="626904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ZILE LUCRATE                         ÎN EXPLOATAŢIILE AGRICOLE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ASA 201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2040" y="2349360"/>
          <a:ext cx="8488440" cy="3333960"/>
        </p:xfrm>
        <a:graphic>
          <a:graphicData uri="http://schemas.openxmlformats.org/drawingml/2006/table">
            <a:tbl>
              <a:tblPr/>
              <a:tblGrid>
                <a:gridCol w="4159440"/>
                <a:gridCol w="2388960"/>
                <a:gridCol w="1940040"/>
              </a:tblGrid>
              <a:tr h="636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umăr zil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ii UAM*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zile lucrate (membrii familiei + salariaţi + temporari + terţi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383.293.17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.56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890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membrii familiei din exploataţiile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339.683.47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.38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89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otal muncă nefamilială (salariaţi + temporari + terţi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43.609.69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7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466560" y="5877000"/>
            <a:ext cx="65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99"/>
                </a:solidFill>
                <a:latin typeface="Verdana"/>
              </a:rPr>
              <a:t>*Unitatea anuală de muncă (UAM) = 245 zi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09160"/>
            <a:ext cx="8458200" cy="98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TIPOLOGIA</a:t>
            </a:r>
            <a:r>
              <a:rPr b="1" lang="ro-RO" sz="3000" spc="-1" strike="noStrike">
                <a:solidFill>
                  <a:srgbClr val="ffffcc"/>
                </a:solidFill>
                <a:latin typeface="Arial"/>
              </a:rPr>
              <a:t> ŞI DIMENSIUNEA ECONOMICĂ   A EXPLOATAŢIILOR AGRICOLE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- ASA 2013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320" y="1219320"/>
          <a:ext cx="8899560" cy="5032080"/>
        </p:xfrm>
        <a:graphic>
          <a:graphicData uri="http://schemas.openxmlformats.org/drawingml/2006/table">
            <a:tbl>
              <a:tblPr/>
              <a:tblGrid>
                <a:gridCol w="3879720"/>
                <a:gridCol w="1270080"/>
                <a:gridCol w="1098360"/>
                <a:gridCol w="1662120"/>
                <a:gridCol w="989280"/>
              </a:tblGrid>
              <a:tr h="6404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IPOLOGIA EXPLOATAŢIIL</a:t>
                      </a:r>
                      <a:r>
                        <a:rPr b="1" lang="ro-RO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 AGRICO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xploataţii agric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imensiunea economic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-număr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-mii euro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 SPECIALIZATE ÎN CULTURI ÎN CÂMP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42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6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8,7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.127.514,0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4,4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. SPECIALIZATE ÎN HORTICULTURĂ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,5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3.388,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,7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. SPECIALIZATE ÎN CULTURI PERMAN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3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5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,2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10.462,2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,5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. SPECIALIZATE ÎN CREŞTEREA ANIMALELOR ERBIVOR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8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2,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.836.334.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,6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. SPECIALIZATE GRANIVOR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21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7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,8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217.812,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,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. CULTURI MIX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6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,8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20.163,0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,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. EFECTIVE MIXTE DE ANIMA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71</a:t>
                      </a: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9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,4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112.105,5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,2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. EXPLOATAŢII AGRICOLE MIXTE (CULTURI VEGETALE ŞI EFECTIVE DE ANIMALE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47.52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,5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767.685,8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. EXPLOATAŢII AGRICOLE NECLASIFICA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6.27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,5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TOTAL EXPLOATAŢII AGRICO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.629.65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.995.465,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209160"/>
            <a:ext cx="8450280" cy="98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DIMENSIUNEA ECONOMICĂ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DIE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         A EXPLOATAŢIILOR AGRIC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8360" y="1371600"/>
          <a:ext cx="8955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371600"/>
                    <a:ext cx="8955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PREZENTARE GENERALĂ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Recensământul General Agricol (RGA) şi Ancheta Structurală în Agricultură (ASA) –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cercet</a:t>
            </a: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ri </a:t>
            </a: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de bază în domeniul statisticii structurilor agricole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Ultimul RGA – 2010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Între două RGA se organizează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dou</a:t>
            </a: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ASA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eaeaea"/>
                </a:solidFill>
                <a:latin typeface="Verdana"/>
              </a:rPr>
              <a:t>Datele prezentate sunt de la ASA 2013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5000" y="260280"/>
            <a:ext cx="7390080" cy="133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PA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RAŢIA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CU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TATE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LE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MEMBRE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(1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1080" y="1600200"/>
            <a:ext cx="8210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124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eastă dată nu avem informaţii cu privire la rezultatele obţinute de Statele Mem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re la ASA 201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245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Din informaţiile pe care le deţinem în prezent, din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te cercetări privind statistica agricolă din domeniul vegetal, putem afirma următoarel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47840" indent="-432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Circa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o treime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din numărul total al exploataţiilor agricole din UE sunt înregistrate în Româ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47840" indent="-432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România este cel mai mare cultivator de porumb boabe şi floarea soarelui din UE, având mai mult de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o pătrime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din suprafaţa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ultivat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ă înregistrată în cadrul UE, pentru fiecare din cele două cultur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47840" indent="-432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Din punct de vedere al suprafaţei cultivate cu grâu, România ocupă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ocul 5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, după: Franţa, Germania, Polonia şi Span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5000" y="259920"/>
            <a:ext cx="739008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PA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RAŢIA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CU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TATE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LE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MEMBRE 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1080" y="1916280"/>
            <a:ext cx="82105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852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Din informaţiile înregistrate în cadrul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tor cercetări privind statistica agricolă din domeniul animal,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situaţia la sf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â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rşitul anului 2013 era următoarea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61880" indent="-46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La efectivele de ovine şi caprine, România ocupa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ocul patru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în rândul Statelor Membre, după: Regatul Unit, Spania şi Grec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61880" indent="-46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La efectivele de porcine, România se situa pe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locul nouă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în UE, după: Germania, Spania, Franţa, Danemarca, Olanda, Polonia, Italia şi Belgi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461880" indent="-46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La efectivele de bovine, România se afla printre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primele zece</a:t>
            </a:r>
            <a:r>
              <a:rPr b="0" lang="ro-RO" sz="2000" spc="-1" strike="noStrike">
                <a:solidFill>
                  <a:srgbClr val="eaeaea"/>
                </a:solidFill>
                <a:latin typeface="Arial"/>
              </a:rPr>
              <a:t> ţări ale UE, după: Franţa, Germania, Regatul Unit, Irlanda, Italia, Spania, Polonia, Olanda şi Belg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360" y="468360"/>
            <a:ext cx="77911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ACTIVITĂŢI VIITO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83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mătoarea anchetă structurală în agricultură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–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în anul 201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Va păstra structura ASA 201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Vor fi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ncluse </a:t>
            </a:r>
            <a:r>
              <a:rPr b="1" lang="ro-RO" sz="2000" spc="-1" strike="noStrike">
                <a:solidFill>
                  <a:srgbClr val="eaeaea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cercetar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variabil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privind metodele de producţie agricolă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indicate in Regulamentul nr. 715/201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rmătorul recensământ general agricol – în anul 202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rmeaz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a se stabili cadrul legal metodologic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 de organiza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390080" cy="149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VĂ MULŢUMIM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cadrul leg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În conformitate cu legislaţia europeană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eaeaea"/>
                </a:solidFill>
                <a:latin typeface="Arial"/>
              </a:rPr>
              <a:t>(Regulamentul PE şi al Consiliului nr.1166/ 2008 şi Regulamentul PE şi al Consiliului nr.1200/ 2009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Asigurarea comparabilităţii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datelor</a:t>
            </a: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 între ţări şi agregarea datelor la nivel european – aceeaşi metodologie în toate ţările 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Bugetul ASA: contribuţia UE – 2 mil. Euro (75%) plus contribuţia naţională (25%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caracteristici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Principalele caracteristici urmărite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Numărul de exploataţii agricole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Suprafaţa agricolă utilizată a exploataţiilor agricole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 pe categorii de folosin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ţă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ş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i mod de de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ţ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ine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Efectivele de animal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a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ş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ini 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ş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i echipamente agricol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Persoanele care au desfăşurat activităţi agricole şi 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num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ă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rul de </a:t>
            </a: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zile lucrat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Alte activităţi aducătoare de venituri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Agricultura ecologică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eaeaea"/>
                </a:solidFill>
                <a:latin typeface="Verdana"/>
              </a:rPr>
              <a:t>Dezvoltarea rurală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calendarul anchete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2013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pregătirea culegerii datel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2014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culegerea datelor 10 i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 -10 feb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2014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544760" indent="-282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relucrarea datelor şi diseminarea rezultatelor fina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Momentul/perioada de referinţă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eaeaea"/>
                </a:solidFill>
                <a:latin typeface="Verdana"/>
              </a:rPr>
              <a:t>31/12/2013 pentru efective de animale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eaeaea"/>
                </a:solidFill>
                <a:latin typeface="Verdana"/>
              </a:rPr>
              <a:t>1/10/2012-30/09/2013 pentru: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Modul de utilizare a terenulu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Persoane care au lucrat în agricultur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Alte activităţi aducătoare de venitur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eaeaea"/>
                </a:solidFill>
                <a:latin typeface="Verdana"/>
              </a:rPr>
              <a:t>Ultimii 3 ani (2011, 2012 şi 2013) pentru dezvoltarea rurală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planul de sondaj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Eşantionul cercetării statisti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Exploataţii agricole cu personalitate juridică – exhaustiv (aprox. 30.00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Aprox. 10% din exploataţiile agricole fără personalitate juridică regăsite în RGA şi REXA (aprox. 313.00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Gradul de încredere 9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Marja de eroare +/- 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41080" y="1371240"/>
            <a:ext cx="8210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13040" indent="1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Georeferenţierea exploataţiei agricol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290520" indent="-432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Localizarea exploataţiei agricole prin coordonatele latitudine şi longitudine  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290520" indent="-4320"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Precizia 5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(30-60 Km</a:t>
            </a:r>
            <a:r>
              <a:rPr b="1" lang="ro-RO" sz="2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1" lang="ro-RO" sz="2400" spc="-1" strike="noStrike" baseline="30000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care evită identificarea directă a exploataţiei agrico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13040" indent="1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Asigurarea confidenţialităţii datel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290520" indent="-4320"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eec85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eaeaea"/>
                </a:solidFill>
                <a:latin typeface="Arial"/>
              </a:rPr>
              <a:t>În cazul în care coordonatele de latitudine şi longitudine includ o singură exploataţie agricolă, acesteia i se atribuie un amplasament învecinat care conţine cel puţin o exploataţie agricol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ASA 2013 – georeferenţie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elucrarea datelor</a:t>
            </a: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iu externalizat pentru actualizarea aplicatiei informatice utilizată la RGA 201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vel teritorial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cerea datelor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zolvarea erorilor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 colaborare cu IN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erea fişierelor de date la IN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vel central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ontrolul datelor la nivel INS; elaborarea tabelelor de control pentru analiză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raţii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u RGA 2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, PVPC şi EP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rezolvarea erorilor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za datelor centralizate cu proceduri automate şi efectuarea corecţiilor autom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inderea datelor, aplicarea procedurilor de redresare şi recalibrare a coeficienţilor de extinder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erea la DTS a principalilor indicatori după extinderea datelor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idarea rezultatelor obţinu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714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3" marL="1714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SA 2013</a:t>
            </a:r>
            <a:r>
              <a:rPr b="1" lang="ro-RO" sz="3600" spc="-1" strike="noStrike">
                <a:solidFill>
                  <a:srgbClr val="ffffcc"/>
                </a:solidFill>
                <a:latin typeface="Arial"/>
              </a:rPr>
              <a:t> – diseminarea rezultatelor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ivel naţional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omunicat de presă (15 decembrie 2014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ezultate finale (2 volume, 1 volum cu date generale la nivel naţional şi 1 volum cu date pe macroregiuni, regiuni de dezvoltare şi judeţ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te + C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te-ul INS (principalele in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maţii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dicatori de dezvoltare durabil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urostat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şier Eurofarm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15 decembrie 2014 pentru rezultatele anchetei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Raport metodologic naţional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ipologia şi dimensiunea economică a exploataţiilor agricole (publicaţi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rte + CD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8:50:18Z</dcterms:created>
  <dc:creator>bogdan.oancea</dc:creator>
  <dc:description/>
  <dc:language>en-US</dc:language>
  <cp:lastModifiedBy>mariana.clipcea</cp:lastModifiedBy>
  <dcterms:modified xsi:type="dcterms:W3CDTF">2015-06-09T12:59:24Z</dcterms:modified>
  <cp:revision>49</cp:revision>
  <dc:subject/>
  <dc:title>Slide 1</dc:title>
</cp:coreProperties>
</file>