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</p:sldIdLst>
  <p:sldSz cx="9902825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hdr"/>
          </p:nvPr>
        </p:nvSpPr>
        <p:spPr>
          <a:xfrm>
            <a:off x="-1800" y="-1800"/>
            <a:ext cx="2949480" cy="500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dt" idx="79"/>
          </p:nvPr>
        </p:nvSpPr>
        <p:spPr>
          <a:xfrm>
            <a:off x="3849480" y="-1800"/>
            <a:ext cx="2949480" cy="500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ftr" idx="80"/>
          </p:nvPr>
        </p:nvSpPr>
        <p:spPr>
          <a:xfrm>
            <a:off x="-1800" y="9428040"/>
            <a:ext cx="2949480" cy="5018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sldNum" idx="81"/>
          </p:nvPr>
        </p:nvSpPr>
        <p:spPr>
          <a:xfrm>
            <a:off x="3849480" y="9428040"/>
            <a:ext cx="2949480" cy="5018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8E192EF-3C61-4B61-B59E-B73F2244E37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body"/>
          </p:nvPr>
        </p:nvSpPr>
        <p:spPr>
          <a:xfrm>
            <a:off x="909360" y="4716000"/>
            <a:ext cx="4978440" cy="4467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 type="sldImg"/>
          </p:nvPr>
        </p:nvSpPr>
        <p:spPr>
          <a:xfrm>
            <a:off x="723960" y="754200"/>
            <a:ext cx="5338800" cy="37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5"/>
          <p:cNvSpPr/>
          <p:nvPr/>
        </p:nvSpPr>
        <p:spPr>
          <a:xfrm>
            <a:off x="3849840" y="9428040"/>
            <a:ext cx="29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814B12E-D90F-48AC-A73A-A7177D3585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723960" y="754200"/>
            <a:ext cx="5354640" cy="3709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723960" y="754200"/>
            <a:ext cx="5354640" cy="37098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09360" y="4716000"/>
            <a:ext cx="4978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Номер слайда 3"/>
          <p:cNvSpPr/>
          <p:nvPr/>
        </p:nvSpPr>
        <p:spPr>
          <a:xfrm>
            <a:off x="3849840" y="9428040"/>
            <a:ext cx="29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F3893FF-39B1-4C8D-9834-D8C3E1B0AD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723960" y="754200"/>
            <a:ext cx="5354640" cy="37098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09360" y="4716000"/>
            <a:ext cx="4978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Номер слайда 3"/>
          <p:cNvSpPr/>
          <p:nvPr/>
        </p:nvSpPr>
        <p:spPr>
          <a:xfrm>
            <a:off x="3849840" y="9428040"/>
            <a:ext cx="29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7841599-0E53-4F69-BD26-3085676CBE3D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5"/>
          <p:cNvSpPr/>
          <p:nvPr/>
        </p:nvSpPr>
        <p:spPr>
          <a:xfrm>
            <a:off x="3849840" y="9428040"/>
            <a:ext cx="29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7D7E383-B5D8-4B47-ABF3-B9391C0043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358920" y="754200"/>
            <a:ext cx="6080040" cy="4209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723960" y="754200"/>
            <a:ext cx="5354640" cy="37098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09360" y="4716000"/>
            <a:ext cx="4978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Номер слайда 3"/>
          <p:cNvSpPr/>
          <p:nvPr/>
        </p:nvSpPr>
        <p:spPr>
          <a:xfrm>
            <a:off x="3849840" y="9428040"/>
            <a:ext cx="29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F8150F0-A1A8-4BF9-A7A1-72CDA1D3B206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723960" y="754200"/>
            <a:ext cx="5354640" cy="37098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09360" y="4716000"/>
            <a:ext cx="4978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Номер слайда 3"/>
          <p:cNvSpPr/>
          <p:nvPr/>
        </p:nvSpPr>
        <p:spPr>
          <a:xfrm>
            <a:off x="3849840" y="9428040"/>
            <a:ext cx="29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DA53970-BFED-4CE4-952A-89CABA1335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09360" y="4716000"/>
            <a:ext cx="4978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Номер слайда 3"/>
          <p:cNvSpPr/>
          <p:nvPr/>
        </p:nvSpPr>
        <p:spPr>
          <a:xfrm>
            <a:off x="3849840" y="9428040"/>
            <a:ext cx="29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52148FC-1919-40CA-A4CD-230E8DD7719F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628-B842-4B09-AB4A-1D7E3259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2A0-62AA-470B-A9DB-DA890301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EDED4-2965-4493-95CD-FB58E9C9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2BC34-C17C-4DEE-A1A0-5159D103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F8B14-F300-41B1-9273-362CA2DF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5BA38-4615-4B33-A12B-F9C61E93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479E3-2F05-426E-9407-070D2D2C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A393C-11B8-49B6-B5B7-32F54888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91C75-82FE-4951-98D1-380F9B73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BE791-4450-43A1-8908-5E1B2679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6E152-44B9-434D-8C7D-515AAB58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05431-ECF2-4C81-9539-915816F4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5BA-E14C-422F-9782-D3A35854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812F8-1D39-42E6-9A06-2C64A500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A6AAA-9C64-4914-B7B4-E08540F2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4C48D-BA7F-4640-83A0-7C08F82D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24767-3E73-470D-9837-6030F6FC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D0880-0701-4A0E-8BCF-326A661C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0B48E-0A5F-41CA-AA53-090A6525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370AD-2333-425C-A105-8155F02C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B74BA-5A2A-4301-ABAA-FD3BC636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69D71-FA89-4889-83D3-D3CB9CCA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1EBD3-D9FA-4A95-AC02-9D54E645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D2A-3642-4FD7-993A-3D6DDB2E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8D8DE-B5B5-4D95-B733-E8B58E4C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DD92A-53CF-4382-A184-5B36FACE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63D5D-41EC-4ED4-9959-E6CA82B1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28755-F35D-438F-B14E-7D2C7110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3C3A9-C454-44C0-A94C-FECD9FA1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90081-A602-47E1-96BA-5070D08B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5FB5A-AC5E-4DDF-835D-7264CE5D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C2E77-DA09-4CC3-99DA-B4B43455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E4CE0-589C-4F8E-9205-1D90DE50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20EC4-52C8-4418-9EDA-15440A1B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38EF-9EF6-4932-983A-2EEBAEED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86B9C-E930-4246-B61A-7FA2454C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5AAB6-01AC-4AB0-98A8-90B4AAFE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A4D53-E4D7-4282-9570-0D3D0236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B09F0-265E-45FE-9D05-FA17D3F3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30D62-313E-4088-BCED-F3C01E55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C7BED-0F57-4769-9E19-C18BB6A1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290C7-906F-4182-A477-F47A8BF6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AE2C5-8A53-4C59-AFB8-1CD1E12E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87161-000F-4EC2-AEED-9BBB6318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1A805-97EF-4843-B876-7575F407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4415-01A9-47A6-9AC0-E666F194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7C54B-437E-484C-BA03-AE63B5A5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FB8E4-951A-4F5E-AFD0-8E8B4A89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B1F30-E676-490F-B6B0-AF6C508F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45BB4-CAE1-41EE-A1D2-C3BE98B7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7537F-73AD-4A90-A87A-F0708E7A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16B9F-B47D-4A9B-9CD6-AFCF4632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26F21-C7AB-44FA-8D3D-3D0C7E27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7FE8C-254B-468C-990F-4C31E0BC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6E65A-81B4-4F11-9AD7-A2016DE7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F8C71-83BD-4B75-B6B5-18B7C845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8703-9DE1-48C9-8E2A-FA043FAF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C9AA88-345D-4B6F-A4F7-A58D2A8A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5AE14-4D8B-4AEE-B879-49424426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84F8D-29F3-44DA-A514-39506502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601FB-74C6-454D-AFE1-5BD332B3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4ED5B-440F-4D1E-AA3C-17607CB6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31798-8085-4031-A12C-79819DCA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EA769-D1E7-4506-A69A-094D0B7F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5C9A6-A37A-4D3F-8D57-A6E498CB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071F9-902F-451D-B074-7B7ACD58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1AB19-797C-44DB-922F-76FDCBDF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DD52-A794-41AD-8711-1E92BDC7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FB978C-5BE7-4CFF-9517-91525DB2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DCC7D-9555-4D25-9132-801C0C12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4A129F-AEB8-4ED1-B90D-FAA63592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F735A-B945-4DAD-8B8A-70293DE8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91C2E-F115-46A8-841E-623E34C8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60855-0A82-467F-9991-9536AB64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F8C31-6AB4-45AB-8518-4476DB81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83C4C-8865-4FCD-9781-57C14283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9CE7E-15FF-40DB-BDED-B874A531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81E33-BDF4-41E1-AC13-4E0E4E36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3440-A78B-471B-A90C-49987644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5FC857-17EE-4947-8F91-34C7E390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801C8-49C1-4ACA-9384-0B9C8A41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A4AAAD-7BCA-4978-8FEC-D1D63D3D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6B241-FC97-4A72-A85C-42023082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FAD5C-B6E8-4F73-872D-EEAB3243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5AC8C-6B21-4B0F-86B8-B3623248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BE330E-E0B1-4F69-89B8-AAA1580F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8B2A18-2EE0-44C4-B09B-332D3386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1C5CDF-8E9C-487D-A449-13EE4770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93A40E-A248-43B0-9BFD-1177F284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7DC8-B052-42C8-962D-CF6934F1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DD7BDB-D36C-4AD6-A931-2979FCEA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BCE54D-50A4-4E6D-ADE5-8479F570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70465-DE5D-433A-96D8-40115E33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4F485D-04FC-4F3E-BE65-92061B08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3BEB58-1FE3-4A27-8914-08A42D98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C0AA7C-0FF5-461F-ACB9-F297EC73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79072-96B2-40F7-841D-A1472DAD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4466D0-0DE2-450B-90F1-6F410886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AABD1-2EEA-4175-B18A-C050F939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82EAFA-810B-48E0-9FF4-ED6DF0A0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3EF5-1C2D-492D-B0E4-A314B02A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8AC680-12FA-4512-9220-DB63AA02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D62FB3-B3EB-4C94-918D-45A63DB1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F055A8-D253-4E98-929A-D05A0A6A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37F27-E429-4833-A801-EB12D15D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85D48-A35A-49EB-B11B-6D2E89C2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C3924-0344-445E-B129-779FEBD0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055116-AAAB-4FB1-84D3-9E27F037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170BD6-B2FA-4A4C-8924-C4B3A707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010330-1D49-436C-9CF7-09EFE572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ABD93D-488A-43D8-8FDE-69C24B3C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293-CCCC-4FB4-8DFA-FF6A3DC1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1755-A6A9-48AB-8703-1A891E7A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7995E-2E74-4FD2-8990-6A9E6B7D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D88DD1-22CD-466B-923C-247E213B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E199F-3646-4756-904B-26CD12B0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7697EA-5409-4384-826D-84C5955E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E8ACAE-ED15-4307-90F2-FA285863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FD9CC9-C052-404C-BF99-97864327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B7FA57-C0F5-4EBE-A697-5CEFEBF1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A984C3-AD1C-4538-8028-7B6A8932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6EFC63-F7D1-4953-AC83-CF609ADD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CBE916-1F63-4315-BA70-201397F0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105A-8E1B-463B-9298-0F74B3DB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04BE73-D881-41CC-B5D3-74458525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4BFC9-8F8A-4F8E-87B1-983A051A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EB6326-27B7-453C-9524-CA77DA1A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425B94-7360-456C-9683-F9B64F3A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FF6B5E-D145-4B5B-BF46-F45ACD3C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F73AD-A007-423E-948F-92E8A935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412D24-F81E-4E8C-92DE-A9072489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68ACEA-64F6-4F6E-8D33-B39BBEF4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141801-9420-4984-86D5-F8B6F3AD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47A1B-09D8-447F-8FDD-D58BEEF0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DFA5-1B8F-41A6-B9BA-CA2CCD67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423C45-2FB8-40B1-9C9A-9C1100FF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2E9427-9091-4972-88D9-42D2C540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4E5DB4-F06D-4F94-A136-AA260B59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F96BAC-724A-4823-B896-D22F18C2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3E0C36-D47F-4CD5-AFBF-F1B6B090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7A132D-ADD9-4E2C-AED7-7A958EC0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914477-0B1D-4AD0-8210-7E98AD81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DADEA-EE89-42A0-A342-E6669CD6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EDE5D0-EC8B-4C20-8462-B90C9AE1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BD960-1513-4E02-9083-C2703577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88AF-66A1-42DC-A875-31F7E687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3A5567-F5B8-4034-B6A9-B058F318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4F82E4-3044-4AD7-BCFE-EB9A7230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DBED44-BB3C-475E-920D-AE3B3DAD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7C7DD9-2431-43CF-B1F1-DEDE0CD0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A70F9C-2D30-42B7-9F48-9FD11FE3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559657-8FB6-47AA-8ADB-5E7DA898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85EC2-C272-407F-8C1B-F3C5C8D3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22C0FD-4B7A-4A55-9C77-6324E4C1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327D27-4701-415D-9CA6-A7494293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5B1D34-EC0E-481C-8468-5F334282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06A2-9714-4C29-8438-3B75779F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EB2291-F5E5-4167-9F79-EE35D0B2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766412-E8FB-4D96-914B-A39D6ED9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FB95F5-3F54-4D5E-AA86-5790BEF5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134B8E-14F5-4227-ADDE-CEB608BE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527F81-4A40-4F50-8D8C-729B77BC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76E61B-025D-4C16-A2EA-42896686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9AE397-71BA-4EAD-A93D-0D087CE4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2DF4BA-5AF6-43C2-A55D-CDBAF02D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79891F-6DC8-435E-BA50-4DA8813A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F8C46-91CC-4B36-ACFA-D52C069B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CD8D1-F547-45A2-A035-731D6FF4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0E8B58-C8EB-4BE9-BCC9-219038A3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34DBA5-D1D4-4584-A91F-B367DBEC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6BC4EF-3BA3-4DDA-9968-7C7B4C14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55B6C8-15A8-45AF-BAEF-D36E7195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68F1CF-25A3-430F-BE70-B7BD37DC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C1ABEE-7AA7-4D0C-9593-C25E74E3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6C445D-A444-4127-9726-41F1AEEA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090BC0-8527-4E25-943C-D515A949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7D2644-42FA-4846-A186-3BFB1B75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2EA506-6CB6-42A0-94F1-8867EC0B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2F1B-2BB2-4F8F-91D3-B6C63C1B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902252-5420-4BB3-8271-21794A22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03519F-9CDB-42C7-942D-5F282355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49561C-F0C2-4032-967D-69E0AB90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4888AF-481E-4958-992C-2D53E022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C83224-FFF6-4AA7-976A-D5C07D4F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B21AEA-B3B0-4129-9734-559E9BA4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C91396-4DB6-41C0-A4BC-A47B4633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E1D114-4086-4CC6-AF26-631D91ED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891AC6-E17A-4507-A293-2CA1CE98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F91DDB-3A25-4ECB-B63B-933373A2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E4D3B-8395-4654-9A9B-F6CEF37D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906C4F-49E4-4754-80F3-6B19C11D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EE6D8A-5B01-4392-8D0F-8569E187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CD042C-9142-49D1-8856-D7179CD2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717881-9528-4CA9-B67F-9A2DE6CA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DE86D9-6AFA-4AD8-9860-ED027985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091C57-22BC-4CB2-96F9-4950A2C1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F0964A-E1C4-49DC-AF94-13571F06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960E16-BFDC-47F0-872A-7009C8D3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37037E-9C8E-4607-BE6D-6CB6B681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B7CE23-48AC-4543-827C-C312CACA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02216-D308-4B74-BA15-A09FE623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CF8D6D-FECB-4C9F-9687-961B18CC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284E85-CFC2-4856-A8E4-9F86B383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A1DE14-53A8-473A-90E6-9E2BB1BB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C6A2A7-1D66-4BA0-BD1F-A4FE600D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7A368B-DC63-4D59-807A-F4267289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260BD1-AC23-42AB-95F8-1F32AB87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41FB30-C28D-4DED-9CA5-1319173C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27A764-B4D0-4C35-A11E-123B4F44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8D4D63-2BA7-4DDA-944D-031C00B4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798AC4-143C-4ED3-AB19-1B208A6E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21F3A-186D-433C-8004-83D018F7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66E469-B8AD-4EB1-B90F-FA2F238B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92E18A-95BB-4133-8075-AB1C9C2C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DBFE1E-8558-4AAD-B0B1-762F8602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FC318A-535F-4E68-BD6E-E880967C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D22752-383F-4406-8C32-028DDB31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131114-7F97-4F11-B6C9-85E421FC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2259D6-52C1-400B-BF2C-6313BA12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922AA5-8203-4596-938C-021556C7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EDC174-E3C4-415F-B2CE-31DE191D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16C9E7-C81A-4DF2-9007-0A62F5D2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155-09C9-46BA-B184-27D76AC6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029BE-023E-4839-9A05-A3D11496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6A5096-487F-4A2D-A0A0-F1316291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226413-DBAA-49D0-9501-F346AE95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0FE012-8414-4F2B-B9F9-D91CFA13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766380-6497-423F-922B-1EBFDEF3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839246-1C1E-4E10-B894-F626524D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95C73F-EAE1-4A56-8599-DC2F4A07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A4DCA0-155F-4F06-A120-30B7E2BA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1C3822-91FE-4F40-8460-436584BF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9CF46B-FABE-488C-BED5-7AE299F1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F3BCB3-848A-4D0B-98D9-2217F030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D648D-A88D-4193-9939-5A67ADA0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D10CEA-3376-4343-A8EF-B6092BE4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77E59A-9157-462A-BF89-84705937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307830-01E8-4644-B7C5-34A7BA93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C9C32-5622-45B1-8BE2-14EE8BC5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879F7-81AA-4408-9F03-FE5019BA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695A2-6F1C-4B99-BFD9-723D978F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C65EC-2AE3-4936-9B99-A1201E48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34EE1-538A-4DAF-86D3-FE7A2B0C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A2527-B357-4732-A8FD-E457A5B8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3C54E-6469-4488-B199-6EEAC106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0B1B1-DBD3-45AA-92D4-343103FD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C8C-A72A-4518-8AE0-5CF3181B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2B5AF-13FF-4848-A47E-7EDBD57D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F844E-CA97-4D62-873A-8ACB6BAB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AC597-4F82-4DB5-8B62-54BDBE55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EF838-AF00-4D34-9741-19C4B3C0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8E848-82F3-44A7-8CD8-0EE64E86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CDC55-7A62-498B-9535-50F4FABC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47BC5-9C3B-4A3C-942F-B56FA394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21F05-3A67-47C0-ADBC-761560DC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51B40-C5F5-4CAE-9130-2131670A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0D117-2DF6-43FC-A284-333EEFFA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3FE-46FF-4A69-8A94-FA21FE3F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17662-3B46-4E2A-8D99-61B9E964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F538D-ADE5-4BEB-B8EC-A688A067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A3B0A-A04A-4272-B50E-8102547A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58304-E4AC-4AB6-B932-4AA27EE9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C21CF-D099-4B24-8274-75694775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BFD62-BFF2-4C5D-BDFA-4D41F365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7DB52-BA04-4D17-BE44-614AC8B9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6FAA1-F6E1-4511-89E7-637E8AE5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74F1C-B380-4255-B598-BBC60BB1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CFFFD-DCE4-42DD-9DAA-333D4878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CDE-AAB7-45DB-91E5-98E2E37A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47C21-3DA1-4EAF-8692-B0DA0CC5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E3A19-EC74-4182-97AB-84959B77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36AA1-62B4-4734-A7A1-74FE5E46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090C6-A21B-4C3F-986C-EF6A1EA4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94064-0BF9-41D1-AE60-6E69144E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B5679-DDBB-4909-BB05-7A30705A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CCA59-6F5F-4809-B870-33651F5D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19D82-D380-47B1-A72D-4E84E5D2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ED1A6-D97C-4793-A573-A378F43C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61F29-8967-473D-B98C-C3C1ABF4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4F3-A394-4503-81AA-ACDC9EBA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D09D2-187F-4B27-9DFD-9E83A233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5AEB8-A23B-40EC-A4E8-55F5E9E9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0C297-6476-40B3-A763-E195CF2B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6A01C-73BA-440D-B971-A99E4420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E55ED-C23D-4C98-8129-F9AD3BED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60DCC-CC0D-4B81-8243-98D57547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76DFC-08B4-4E08-B9B8-08A589E5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2620C-1BB3-4AE3-BA0B-5EB47B81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1B59F-915E-40C1-A7CB-15C4929D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1D927-1C49-4675-B273-4F9E2944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656-0694-4B1F-AA0C-D86E3D81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40BB8-1387-4376-906D-5D8745A2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BB566-88F1-425A-A7A0-86A83EFF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7089E-F2F2-4E7B-BECE-F865BB2E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094D1-B0F2-406A-8F4F-DF755929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BC598-CE4F-4B12-ACE7-B6680E94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7210D-B7A8-4067-AA4F-6B60A973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3BA81-63A6-40C8-BB59-D84513ED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AC87E-E92A-4BF6-94A6-270AF1D1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F90AE-2880-40B4-BC9C-0B985EC0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35D56-44BD-46E5-B74E-0153CEA9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879-01E1-4811-B27C-7B29AC69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2206C-C0E6-420E-A6CD-D9CCD149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59FE5-0374-4AD2-8AA4-4AD9C599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FBC47-C3B1-4242-95F0-F5C601EB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66CCE-0331-4C7A-859F-B8D4D805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8A09F-8224-4DE0-9F59-A073C3D5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9734A-4CF6-4C64-9915-FBB4E247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05FA9-00AC-4AC4-940E-C1D7DD18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33020-7872-4986-8318-44CCE284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DA260-BD31-43A2-83FC-D5B687CD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ACCC3-C217-452B-ADF7-DC841A2E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4fc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C315-067E-4843-BBC0-1DD0754FFC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4fc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77F6-37AD-43E1-8578-D801270507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4fc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3359-6529-4053-821F-54336C7BF1C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4fc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9502-BC8C-4991-9A3E-AFC9789B12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4fc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0D91-3B21-468E-A2B0-B4390387CA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4fc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6935-21A5-47A3-968F-FECC86F9CC0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BD67-A57C-4B26-BE77-6604BBAB931E}" type="slidenum">
              <a:rPr b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65A7-9131-4A38-8DEE-2DF8EAA755B6}" type="slidenum">
              <a:rPr b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9D79-D7CE-4A59-A9C3-97DD4DF5D075}" type="slidenum">
              <a:rPr b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2D49-0971-46EE-AF97-1ED5B6A58988}" type="slidenum">
              <a:rPr b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88A8-615C-4F58-A048-23EEFE09C52F}" type="slidenum">
              <a:rPr b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4fc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6977-A8D3-4454-9BFF-44C5607F2B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9FA0-5B7C-42ED-BB6B-A3EA870FE961}" type="slidenum">
              <a:rPr b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2826-5F5F-45A0-84EC-9986606839C2}" type="slidenum">
              <a:rPr b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25D3-88EC-4E27-A73A-2769AECA86A4}" type="slidenum">
              <a:rPr b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6D3D-EF91-4682-8B58-66C66B9481FF}" type="slidenum">
              <a:rPr b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C201-B55D-4A00-A5E3-09242C620769}" type="slidenum">
              <a:rPr b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07C2-FB76-4CCA-AE12-01A31DDE46AA}" type="slidenum">
              <a:rPr b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CB60-BE3C-4097-B175-E44CA9BD4C63}" type="slidenum">
              <a:rPr b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2867-D70A-4F0B-B09D-8D503B211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4fc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32A3-F612-437A-A7B5-A0AAC6FEB00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4fc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0890-4A14-4F1A-957B-ADBBE7536E9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4fc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ED0D-17F8-4581-9B75-2DC6E2781E8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4fc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0149-7885-46CB-86FD-66D9B65312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4fc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FFF6-0232-4A9A-9271-4443F3AE6DF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4fc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A0F9-7EA0-4D9A-BBC4-8B2143343A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1027"/>
          <p:cNvSpPr/>
          <p:nvPr/>
        </p:nvSpPr>
        <p:spPr>
          <a:xfrm>
            <a:off x="0" y="2276640"/>
            <a:ext cx="99028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Всероссийская сельскохозяйственная перепись – основа совершенствования статистики сельского хозяйств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2"/>
          <p:cNvSpPr/>
          <p:nvPr/>
        </p:nvSpPr>
        <p:spPr>
          <a:xfrm>
            <a:off x="0" y="446040"/>
            <a:ext cx="99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ФЕДЕРАЛЬНАЯ СЛУЖБА ГОСУДАРСТВЕННОЙ СТАТИСТИ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7"/>
          <p:cNvSpPr/>
          <p:nvPr/>
        </p:nvSpPr>
        <p:spPr>
          <a:xfrm>
            <a:off x="5456160" y="5373720"/>
            <a:ext cx="4105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меститель начальника Управления статистики сельского хозяйства и окружающей природной сред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.В. Субботи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Группа 5"/>
          <p:cNvGrpSpPr/>
          <p:nvPr/>
        </p:nvGrpSpPr>
        <p:grpSpPr>
          <a:xfrm>
            <a:off x="4446720" y="1224000"/>
            <a:ext cx="3235320" cy="657360"/>
            <a:chOff x="4446720" y="1224000"/>
            <a:chExt cx="3235320" cy="657360"/>
          </a:xfrm>
        </p:grpSpPr>
        <p:pic>
          <p:nvPicPr>
            <p:cNvPr id="1077" name="Рисунок 6" descr=""/>
            <p:cNvPicPr/>
            <p:nvPr/>
          </p:nvPicPr>
          <p:blipFill>
            <a:blip r:embed="rId1"/>
            <a:stretch/>
          </p:blipFill>
          <p:spPr>
            <a:xfrm>
              <a:off x="4446720" y="1224000"/>
              <a:ext cx="8460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8" name="TextBox 7"/>
            <p:cNvSpPr/>
            <p:nvPr/>
          </p:nvSpPr>
          <p:spPr>
            <a:xfrm>
              <a:off x="5450040" y="1255680"/>
              <a:ext cx="22320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1149" name="Text Box 3"/>
          <p:cNvSpPr/>
          <p:nvPr/>
        </p:nvSpPr>
        <p:spPr>
          <a:xfrm>
            <a:off x="2300400" y="115920"/>
            <a:ext cx="733104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еречень статистических показател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ля пересчета ретроспективных динамических ряд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севные площади сельскохозяйственных культур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аловые сборы сельскохозяйственных культур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рожайность отдельных видов сельскохозяйственных культур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головье сельскохозяйственных животных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изводство продуктов животноводства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ализация основных продуктов сельского хозяйства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ъем и индекс производства продукции сельского хозяйства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алансы продовольственных ресурсов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ровень потребления основных продуктов пит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Group 9"/>
          <p:cNvGrpSpPr/>
          <p:nvPr/>
        </p:nvGrpSpPr>
        <p:grpSpPr>
          <a:xfrm>
            <a:off x="95400" y="6537240"/>
            <a:ext cx="9807120" cy="246240"/>
            <a:chOff x="95400" y="6537240"/>
            <a:chExt cx="9807120" cy="246240"/>
          </a:xfrm>
        </p:grpSpPr>
        <p:sp>
          <p:nvSpPr>
            <p:cNvPr id="1151" name="Text Box 10"/>
            <p:cNvSpPr/>
            <p:nvPr/>
          </p:nvSpPr>
          <p:spPr>
            <a:xfrm>
              <a:off x="95400" y="6567480"/>
              <a:ext cx="353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6600"/>
                  </a:solidFill>
                  <a:latin typeface="Arial"/>
                </a:rPr>
                <a:t>ФЕДЕРАЛЬНАЯ СЛУЖБА ГОСУДАРСТВЕННОЙ СТАТИСТИКИ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11"/>
            <p:cNvSpPr/>
            <p:nvPr/>
          </p:nvSpPr>
          <p:spPr>
            <a:xfrm>
              <a:off x="3631320" y="6675480"/>
              <a:ext cx="585900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12"/>
            <p:cNvSpPr/>
            <p:nvPr/>
          </p:nvSpPr>
          <p:spPr>
            <a:xfrm>
              <a:off x="9490320" y="65372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D94E96B-E17B-44DB-AB75-211653D48DE8}" type="slidenum">
                <a:rPr b="1" lang="ru-RU" sz="1000" spc="-1" strike="noStrike">
                  <a:solidFill>
                    <a:srgbClr val="006600"/>
                  </a:solidFill>
                  <a:latin typeface="Arial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0" y="764640"/>
            <a:ext cx="9902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AutoShape 15"/>
          <p:cNvSpPr/>
          <p:nvPr/>
        </p:nvSpPr>
        <p:spPr>
          <a:xfrm>
            <a:off x="3795840" y="692280"/>
            <a:ext cx="1155600" cy="685800"/>
          </a:xfrm>
          <a:prstGeom prst="rightArrow">
            <a:avLst>
              <a:gd name="adj1" fmla="val 50000"/>
              <a:gd name="adj2" fmla="val 38896"/>
            </a:avLst>
          </a:prstGeom>
          <a:gradFill rotWithShape="0">
            <a:gsLst>
              <a:gs pos="0">
                <a:srgbClr val="006600"/>
              </a:gs>
              <a:gs pos="100000">
                <a:srgbClr val="33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17"/>
          <p:cNvSpPr/>
          <p:nvPr/>
        </p:nvSpPr>
        <p:spPr>
          <a:xfrm>
            <a:off x="412920" y="333360"/>
            <a:ext cx="3382920" cy="597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Всероссийская сельскохозяйственная перепись 2006 г. - основа статистики сельского хозяй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19"/>
          <p:cNvSpPr/>
          <p:nvPr/>
        </p:nvSpPr>
        <p:spPr>
          <a:xfrm>
            <a:off x="4951440" y="333360"/>
            <a:ext cx="4456080" cy="13716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формированы информационные ресурсы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б основных характеристиках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и структуре сельского хозяйств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21"/>
          <p:cNvSpPr/>
          <p:nvPr/>
        </p:nvSpPr>
        <p:spPr>
          <a:xfrm>
            <a:off x="4951440" y="1828800"/>
            <a:ext cx="4456080" cy="16002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азработана новая система формирования генеральных совокупностей по все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категориям сельскохозяйственных производите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22"/>
          <p:cNvSpPr/>
          <p:nvPr/>
        </p:nvSpPr>
        <p:spPr>
          <a:xfrm>
            <a:off x="4951440" y="3573360"/>
            <a:ext cx="4456080" cy="8636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азвитие и совершенствование системы выборочных обследовани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23"/>
          <p:cNvSpPr/>
          <p:nvPr/>
        </p:nvSpPr>
        <p:spPr>
          <a:xfrm>
            <a:off x="4951440" y="4581360"/>
            <a:ext cx="4456080" cy="64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ересчеты динамических ряд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24"/>
          <p:cNvSpPr/>
          <p:nvPr/>
        </p:nvSpPr>
        <p:spPr>
          <a:xfrm>
            <a:off x="3795840" y="2205000"/>
            <a:ext cx="1155600" cy="685800"/>
          </a:xfrm>
          <a:prstGeom prst="rightArrow">
            <a:avLst>
              <a:gd name="adj1" fmla="val 50000"/>
              <a:gd name="adj2" fmla="val 38896"/>
            </a:avLst>
          </a:prstGeom>
          <a:gradFill rotWithShape="0">
            <a:gsLst>
              <a:gs pos="0">
                <a:srgbClr val="006600"/>
              </a:gs>
              <a:gs pos="100000">
                <a:srgbClr val="33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AutoShape 25"/>
          <p:cNvSpPr/>
          <p:nvPr/>
        </p:nvSpPr>
        <p:spPr>
          <a:xfrm>
            <a:off x="3795840" y="3716280"/>
            <a:ext cx="1155600" cy="685800"/>
          </a:xfrm>
          <a:prstGeom prst="rightArrow">
            <a:avLst>
              <a:gd name="adj1" fmla="val 50000"/>
              <a:gd name="adj2" fmla="val 38896"/>
            </a:avLst>
          </a:prstGeom>
          <a:gradFill rotWithShape="0">
            <a:gsLst>
              <a:gs pos="0">
                <a:srgbClr val="006600"/>
              </a:gs>
              <a:gs pos="100000">
                <a:srgbClr val="33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AutoShape 26"/>
          <p:cNvSpPr/>
          <p:nvPr/>
        </p:nvSpPr>
        <p:spPr>
          <a:xfrm>
            <a:off x="3795840" y="4581360"/>
            <a:ext cx="1155600" cy="685800"/>
          </a:xfrm>
          <a:prstGeom prst="rightArrow">
            <a:avLst>
              <a:gd name="adj1" fmla="val 50000"/>
              <a:gd name="adj2" fmla="val 38896"/>
            </a:avLst>
          </a:prstGeom>
          <a:gradFill rotWithShape="0">
            <a:gsLst>
              <a:gs pos="0">
                <a:srgbClr val="006600"/>
              </a:gs>
              <a:gs pos="100000">
                <a:srgbClr val="33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Group 31"/>
          <p:cNvGrpSpPr/>
          <p:nvPr/>
        </p:nvGrpSpPr>
        <p:grpSpPr>
          <a:xfrm>
            <a:off x="95400" y="6537240"/>
            <a:ext cx="9807120" cy="246240"/>
            <a:chOff x="95400" y="6537240"/>
            <a:chExt cx="9807120" cy="246240"/>
          </a:xfrm>
        </p:grpSpPr>
        <p:sp>
          <p:nvSpPr>
            <p:cNvPr id="1089" name="Text Box 28"/>
            <p:cNvSpPr/>
            <p:nvPr/>
          </p:nvSpPr>
          <p:spPr>
            <a:xfrm>
              <a:off x="95400" y="6567480"/>
              <a:ext cx="353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6600"/>
                  </a:solidFill>
                  <a:latin typeface="Arial"/>
                  <a:ea typeface="Arial"/>
                </a:rPr>
                <a:t>ФЕДЕРАЛЬНАЯ СЛУЖБА ГОСУДАРСТВЕННОЙ СТАТИСТИКИ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29"/>
            <p:cNvSpPr/>
            <p:nvPr/>
          </p:nvSpPr>
          <p:spPr>
            <a:xfrm>
              <a:off x="3631320" y="6675480"/>
              <a:ext cx="585900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30"/>
            <p:cNvSpPr/>
            <p:nvPr/>
          </p:nvSpPr>
          <p:spPr>
            <a:xfrm>
              <a:off x="9490320" y="65372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0204CB3-23A4-4514-947E-C6439D3A6F6F}" type="slidenum">
                <a:rPr b="1" lang="ru-RU" sz="1000" spc="-1" strike="noStrike">
                  <a:solidFill>
                    <a:srgbClr val="006600"/>
                  </a:solidFill>
                  <a:latin typeface="Arial"/>
                  <a:ea typeface="Arial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AutoShape 26"/>
          <p:cNvSpPr/>
          <p:nvPr/>
        </p:nvSpPr>
        <p:spPr>
          <a:xfrm>
            <a:off x="3782880" y="5516640"/>
            <a:ext cx="1154160" cy="685800"/>
          </a:xfrm>
          <a:prstGeom prst="rightArrow">
            <a:avLst>
              <a:gd name="adj1" fmla="val 50000"/>
              <a:gd name="adj2" fmla="val 38848"/>
            </a:avLst>
          </a:prstGeom>
          <a:gradFill rotWithShape="0">
            <a:gsLst>
              <a:gs pos="0">
                <a:srgbClr val="006600"/>
              </a:gs>
              <a:gs pos="100000">
                <a:srgbClr val="33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23"/>
          <p:cNvSpPr/>
          <p:nvPr/>
        </p:nvSpPr>
        <p:spPr>
          <a:xfrm>
            <a:off x="4938840" y="5516640"/>
            <a:ext cx="4457520" cy="6490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Актуализация  методических указаний по сельскому хозяйств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1027"/>
          <p:cNvSpPr/>
          <p:nvPr/>
        </p:nvSpPr>
        <p:spPr>
          <a:xfrm>
            <a:off x="0" y="0"/>
            <a:ext cx="9902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Итоги ВСХП-2006 представлены в 9 – томах (12 книгах) в разрезе субъектов Российской Федер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Group 31"/>
          <p:cNvGrpSpPr/>
          <p:nvPr/>
        </p:nvGrpSpPr>
        <p:grpSpPr>
          <a:xfrm>
            <a:off x="95400" y="6537240"/>
            <a:ext cx="9807120" cy="246240"/>
            <a:chOff x="95400" y="6537240"/>
            <a:chExt cx="9807120" cy="246240"/>
          </a:xfrm>
        </p:grpSpPr>
        <p:sp>
          <p:nvSpPr>
            <p:cNvPr id="1096" name="Text Box 28"/>
            <p:cNvSpPr/>
            <p:nvPr/>
          </p:nvSpPr>
          <p:spPr>
            <a:xfrm>
              <a:off x="95400" y="6567480"/>
              <a:ext cx="353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6600"/>
                  </a:solidFill>
                  <a:latin typeface="Arial"/>
                  <a:ea typeface="Arial"/>
                </a:rPr>
                <a:t>ФЕДЕРАЛЬНАЯ СЛУЖБА ГОСУДАРСТВЕННОЙ СТАТИСТИКИ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29"/>
            <p:cNvSpPr/>
            <p:nvPr/>
          </p:nvSpPr>
          <p:spPr>
            <a:xfrm>
              <a:off x="3631320" y="6675480"/>
              <a:ext cx="585900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30"/>
            <p:cNvSpPr/>
            <p:nvPr/>
          </p:nvSpPr>
          <p:spPr>
            <a:xfrm>
              <a:off x="9490320" y="65372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2B60BCC-B47B-4D00-B35E-1388F657AE7B}" type="slidenum">
                <a:rPr b="1" lang="ru-RU" sz="1000" spc="-1" strike="noStrike">
                  <a:solidFill>
                    <a:srgbClr val="006600"/>
                  </a:solidFill>
                  <a:latin typeface="Arial"/>
                  <a:ea typeface="Arial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99" name=""/>
          <p:cNvGraphicFramePr/>
          <p:nvPr/>
        </p:nvGraphicFramePr>
        <p:xfrm>
          <a:off x="1855800" y="836640"/>
          <a:ext cx="6792840" cy="4454640"/>
        </p:xfrm>
        <a:graphic>
          <a:graphicData uri="http://schemas.openxmlformats.org/drawingml/2006/table">
            <a:tbl>
              <a:tblPr/>
              <a:tblGrid>
                <a:gridCol w="1224000"/>
                <a:gridCol w="5568840"/>
              </a:tblGrid>
              <a:tr h="34920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том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том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 1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2-х книгах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итоги Всероссийской сельскохозяйственной переписи 2006 год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 2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ереписи. Трудовые ресурс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 3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е ресурс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 4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2-х книгах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и сельскохозяйственных культур и многолетних насажден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 5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2-х книгах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оловье сельскохозяйственных животных 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 6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 средства, производственные помещения и инфраструктур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 7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хозяйство районов Крайнего Севера и приравненных к ним местносте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 8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ая сельскохозяйственная перепись 2006 года: программа, методология и организация провед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 9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и Всероссийской сельскохозяйственной переписи 2006 года (атлас переписи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0" name="Rectangle 1027"/>
          <p:cNvSpPr/>
          <p:nvPr/>
        </p:nvSpPr>
        <p:spPr>
          <a:xfrm>
            <a:off x="2646360" y="5300640"/>
            <a:ext cx="5329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ahoma"/>
              </a:rPr>
              <a:t>Итоги ВСХП-2006 также сформированы по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ahoma"/>
              </a:rPr>
              <a:t>2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ahoma"/>
              </a:rPr>
              <a:t> тыс. районо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ahoma"/>
              </a:rPr>
              <a:t>и город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ahoma"/>
              </a:rPr>
              <a:t>27 тыс. сельским и городским поселения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AutoShape 15"/>
          <p:cNvSpPr/>
          <p:nvPr/>
        </p:nvSpPr>
        <p:spPr>
          <a:xfrm>
            <a:off x="3781440" y="1069920"/>
            <a:ext cx="1155600" cy="685800"/>
          </a:xfrm>
          <a:prstGeom prst="rightArrow">
            <a:avLst>
              <a:gd name="adj1" fmla="val 50000"/>
              <a:gd name="adj2" fmla="val 38896"/>
            </a:avLst>
          </a:prstGeom>
          <a:gradFill rotWithShape="0">
            <a:gsLst>
              <a:gs pos="0">
                <a:srgbClr val="006600"/>
              </a:gs>
              <a:gs pos="100000">
                <a:srgbClr val="33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17"/>
          <p:cNvSpPr/>
          <p:nvPr/>
        </p:nvSpPr>
        <p:spPr>
          <a:xfrm>
            <a:off x="919080" y="873000"/>
            <a:ext cx="2863800" cy="24559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Для разработки долгосрочных программ развития сельского хозяй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19"/>
          <p:cNvSpPr/>
          <p:nvPr/>
        </p:nvSpPr>
        <p:spPr>
          <a:xfrm>
            <a:off x="4930920" y="873000"/>
            <a:ext cx="4744800" cy="10796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Государственной программы развития сельского хозяйства и регулирования рынков сельскохозяйственной продукции, сырья и продовольств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21"/>
          <p:cNvSpPr/>
          <p:nvPr/>
        </p:nvSpPr>
        <p:spPr>
          <a:xfrm>
            <a:off x="2214720" y="3645000"/>
            <a:ext cx="5905440" cy="576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олучение подробной информации бизнес - сообществ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23"/>
          <p:cNvSpPr/>
          <p:nvPr/>
        </p:nvSpPr>
        <p:spPr>
          <a:xfrm>
            <a:off x="2214720" y="4303800"/>
            <a:ext cx="5905440" cy="8539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беспечение международных обязательств по информационному обмену с международными организациям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AutoShape 24"/>
          <p:cNvSpPr/>
          <p:nvPr/>
        </p:nvSpPr>
        <p:spPr>
          <a:xfrm>
            <a:off x="3774960" y="2708280"/>
            <a:ext cx="1155960" cy="685800"/>
          </a:xfrm>
          <a:prstGeom prst="rightArrow">
            <a:avLst>
              <a:gd name="adj1" fmla="val 50000"/>
              <a:gd name="adj2" fmla="val 38908"/>
            </a:avLst>
          </a:prstGeom>
          <a:gradFill rotWithShape="0">
            <a:gsLst>
              <a:gs pos="0">
                <a:srgbClr val="006600"/>
              </a:gs>
              <a:gs pos="100000">
                <a:srgbClr val="33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31"/>
          <p:cNvGrpSpPr/>
          <p:nvPr/>
        </p:nvGrpSpPr>
        <p:grpSpPr>
          <a:xfrm>
            <a:off x="95400" y="6537240"/>
            <a:ext cx="9807120" cy="246240"/>
            <a:chOff x="95400" y="6537240"/>
            <a:chExt cx="9807120" cy="246240"/>
          </a:xfrm>
        </p:grpSpPr>
        <p:sp>
          <p:nvSpPr>
            <p:cNvPr id="1108" name="Text Box 28"/>
            <p:cNvSpPr/>
            <p:nvPr/>
          </p:nvSpPr>
          <p:spPr>
            <a:xfrm>
              <a:off x="95400" y="6567480"/>
              <a:ext cx="353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6600"/>
                  </a:solidFill>
                  <a:latin typeface="Arial"/>
                  <a:ea typeface="Arial"/>
                </a:rPr>
                <a:t>ФЕДЕРАЛЬНАЯ СЛУЖБА ГОСУДАРСТВЕННОЙ СТАТИСТИКИ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29"/>
            <p:cNvSpPr/>
            <p:nvPr/>
          </p:nvSpPr>
          <p:spPr>
            <a:xfrm>
              <a:off x="3631320" y="6675480"/>
              <a:ext cx="585900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30"/>
            <p:cNvSpPr/>
            <p:nvPr/>
          </p:nvSpPr>
          <p:spPr>
            <a:xfrm>
              <a:off x="9490320" y="65372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C01DE88-8DEB-4D7D-B300-50BE3C2E9A1E}" type="slidenum">
                <a:rPr b="1" lang="ru-RU" sz="1000" spc="-1" strike="noStrike">
                  <a:solidFill>
                    <a:srgbClr val="006600"/>
                  </a:solidFill>
                  <a:latin typeface="Arial"/>
                  <a:ea typeface="Arial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Text Box 23"/>
          <p:cNvSpPr/>
          <p:nvPr/>
        </p:nvSpPr>
        <p:spPr>
          <a:xfrm>
            <a:off x="2214720" y="5229360"/>
            <a:ext cx="5905440" cy="93636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ередача опыта национальным статистическим службам по вопросам проведения сельскохозяйственных перепис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19"/>
          <p:cNvSpPr/>
          <p:nvPr/>
        </p:nvSpPr>
        <p:spPr>
          <a:xfrm>
            <a:off x="4930920" y="2085840"/>
            <a:ext cx="4744800" cy="55116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Доктрины продовольственной безопасности Российской Федер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AutoShape 15"/>
          <p:cNvSpPr/>
          <p:nvPr/>
        </p:nvSpPr>
        <p:spPr>
          <a:xfrm>
            <a:off x="3782880" y="1984320"/>
            <a:ext cx="1155960" cy="685800"/>
          </a:xfrm>
          <a:prstGeom prst="rightArrow">
            <a:avLst>
              <a:gd name="adj1" fmla="val 50000"/>
              <a:gd name="adj2" fmla="val 38908"/>
            </a:avLst>
          </a:prstGeom>
          <a:gradFill rotWithShape="0">
            <a:gsLst>
              <a:gs pos="0">
                <a:srgbClr val="006600"/>
              </a:gs>
              <a:gs pos="100000">
                <a:srgbClr val="33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19"/>
          <p:cNvSpPr/>
          <p:nvPr/>
        </p:nvSpPr>
        <p:spPr>
          <a:xfrm>
            <a:off x="4930920" y="2781360"/>
            <a:ext cx="4744800" cy="5032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Федеральной целевой программы «Социальное развитие села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2"/>
          <p:cNvSpPr/>
          <p:nvPr/>
        </p:nvSpPr>
        <p:spPr>
          <a:xfrm>
            <a:off x="0" y="115920"/>
            <a:ext cx="990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ование итогов ВСХП-200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87440" y="539640"/>
            <a:ext cx="906120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Формирование генеральных совокупностей 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на основе материалов Всероссийской сельскохозяйственной переписи 2006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7" name=""/>
          <p:cNvGraphicFramePr/>
          <p:nvPr/>
        </p:nvGraphicFramePr>
        <p:xfrm>
          <a:off x="1495440" y="1484280"/>
          <a:ext cx="7253280" cy="4897440"/>
        </p:xfrm>
        <a:graphic>
          <a:graphicData uri="http://schemas.openxmlformats.org/drawingml/2006/table">
            <a:tbl>
              <a:tblPr/>
              <a:tblGrid>
                <a:gridCol w="1977840"/>
                <a:gridCol w="5275440"/>
              </a:tblGrid>
              <a:tr h="1015920"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генеральной совокуп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егория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ьскохозяйственных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ителе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</a:tr>
              <a:tr h="563760"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пные и средние сельскохозяйственные организ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bfeca"/>
                        </a:gs>
                        <a:gs pos="50000">
                          <a:srgbClr val="f3ffed"/>
                        </a:gs>
                        <a:gs pos="100000">
                          <a:srgbClr val="dbfec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ые сельскохозяйственные предприя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bfeca"/>
                        </a:gs>
                        <a:gs pos="50000">
                          <a:srgbClr val="f3ffed"/>
                        </a:gs>
                        <a:gs pos="100000">
                          <a:srgbClr val="dbfeca"/>
                        </a:gs>
                      </a:gsLst>
                      <a:lin ang="5400000"/>
                    </a:gradFill>
                  </a:tcPr>
                </a:tc>
              </a:tr>
              <a:tr h="728640"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стьянские (фермерские) хозяйств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индивидуальные предпринимател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8640"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bfeca"/>
                        </a:gs>
                        <a:gs pos="50000">
                          <a:srgbClr val="f3ffed"/>
                        </a:gs>
                        <a:gs pos="100000">
                          <a:srgbClr val="dbfec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доводческие, огороднические и дачные некоммерческие объединения гражд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bfeca"/>
                        </a:gs>
                        <a:gs pos="50000">
                          <a:srgbClr val="f3ffed"/>
                        </a:gs>
                        <a:gs pos="100000">
                          <a:srgbClr val="dbfeca"/>
                        </a:gs>
                      </a:gsLst>
                      <a:lin ang="5400000"/>
                    </a:gradFill>
                  </a:tcPr>
                </a:tc>
              </a:tr>
              <a:tr h="728640"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ые подсобные хозяйства и другие индивидуальные хозяйства граждан в сельских поселени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8640"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bfeca"/>
                        </a:gs>
                        <a:gs pos="50000">
                          <a:srgbClr val="f3ffed"/>
                        </a:gs>
                        <a:gs pos="100000">
                          <a:srgbClr val="dbfec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ые подсобные хозяйства и другие индивидуальные хозяйства граждан городских поселени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bfeca"/>
                        </a:gs>
                        <a:gs pos="50000">
                          <a:srgbClr val="f3ffed"/>
                        </a:gs>
                        <a:gs pos="100000">
                          <a:srgbClr val="dbfec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pSp>
        <p:nvGrpSpPr>
          <p:cNvPr id="1118" name="Group 9"/>
          <p:cNvGrpSpPr/>
          <p:nvPr/>
        </p:nvGrpSpPr>
        <p:grpSpPr>
          <a:xfrm>
            <a:off x="95400" y="6537240"/>
            <a:ext cx="9807120" cy="246240"/>
            <a:chOff x="95400" y="6537240"/>
            <a:chExt cx="9807120" cy="246240"/>
          </a:xfrm>
        </p:grpSpPr>
        <p:sp>
          <p:nvSpPr>
            <p:cNvPr id="1119" name="Text Box 10"/>
            <p:cNvSpPr/>
            <p:nvPr/>
          </p:nvSpPr>
          <p:spPr>
            <a:xfrm>
              <a:off x="95400" y="6567480"/>
              <a:ext cx="353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6600"/>
                  </a:solidFill>
                  <a:latin typeface="Arial"/>
                </a:rPr>
                <a:t>ФЕДЕРАЛЬНАЯ СЛУЖБА ГОСУДАРСТВЕННОЙ СТАТИСТИКИ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11"/>
            <p:cNvSpPr/>
            <p:nvPr/>
          </p:nvSpPr>
          <p:spPr>
            <a:xfrm>
              <a:off x="3631320" y="6675480"/>
              <a:ext cx="585900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2"/>
            <p:cNvSpPr/>
            <p:nvPr/>
          </p:nvSpPr>
          <p:spPr>
            <a:xfrm>
              <a:off x="9490320" y="65372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A4304BE-3812-4650-95DF-B6F5F765A4A2}" type="slidenum">
                <a:rPr b="1" lang="ru-RU" sz="1000" spc="-1" strike="noStrike">
                  <a:solidFill>
                    <a:srgbClr val="006600"/>
                  </a:solidFill>
                  <a:latin typeface="Arial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2"/>
          <p:cNvSpPr/>
          <p:nvPr/>
        </p:nvSpPr>
        <p:spPr>
          <a:xfrm>
            <a:off x="2611440" y="189000"/>
            <a:ext cx="99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26720" y="358920"/>
            <a:ext cx="97758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Система выборочных обследований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(на основе ВСХП-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"/>
          <p:cNvSpPr/>
          <p:nvPr/>
        </p:nvSpPr>
        <p:spPr>
          <a:xfrm>
            <a:off x="558720" y="2133720"/>
            <a:ext cx="9072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чные подсобные и другие индивидуальные хозяйства гражда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стьянские (фермерские) хозяйства и индивидуальные предпринимате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льскохозяйственные организации – субъекты малог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принимательства (в том числе микропредприятия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Group 9"/>
          <p:cNvGrpSpPr/>
          <p:nvPr/>
        </p:nvGrpSpPr>
        <p:grpSpPr>
          <a:xfrm>
            <a:off x="95400" y="6537240"/>
            <a:ext cx="9807120" cy="246240"/>
            <a:chOff x="95400" y="6537240"/>
            <a:chExt cx="9807120" cy="246240"/>
          </a:xfrm>
        </p:grpSpPr>
        <p:sp>
          <p:nvSpPr>
            <p:cNvPr id="1126" name="Text Box 10"/>
            <p:cNvSpPr/>
            <p:nvPr/>
          </p:nvSpPr>
          <p:spPr>
            <a:xfrm>
              <a:off x="95400" y="6567480"/>
              <a:ext cx="353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6600"/>
                  </a:solidFill>
                  <a:latin typeface="Arial"/>
                </a:rPr>
                <a:t>ФЕДЕРАЛЬНАЯ СЛУЖБА ГОСУДАРСТВЕННОЙ СТАТИСТИКИ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11"/>
            <p:cNvSpPr/>
            <p:nvPr/>
          </p:nvSpPr>
          <p:spPr>
            <a:xfrm>
              <a:off x="3631320" y="6675480"/>
              <a:ext cx="585900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Text Box 12"/>
            <p:cNvSpPr/>
            <p:nvPr/>
          </p:nvSpPr>
          <p:spPr>
            <a:xfrm>
              <a:off x="9490320" y="65372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29EEE65-81F5-4BF3-B410-89C9CDF84E53}" type="slidenum">
                <a:rPr b="1" lang="ru-RU" sz="1000" spc="-1" strike="noStrike">
                  <a:solidFill>
                    <a:srgbClr val="006600"/>
                  </a:solidFill>
                  <a:latin typeface="Arial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1130" name="Text Box 3"/>
          <p:cNvSpPr/>
          <p:nvPr/>
        </p:nvSpPr>
        <p:spPr>
          <a:xfrm>
            <a:off x="2378160" y="981000"/>
            <a:ext cx="6394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аны методические указания по проведению выборочного статистического наблюдения за сельскохозяйственной деятельностью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ичных подсобных и других индивидуальных хозяйств граждан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рестьянских (фермерских) хозяйств и индивидуальных предпринимателей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льскохозяйственных организаций - субъектов малого предпринимательств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4"/>
          <p:cNvSpPr/>
          <p:nvPr/>
        </p:nvSpPr>
        <p:spPr>
          <a:xfrm>
            <a:off x="2435400" y="11444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Group 9"/>
          <p:cNvGrpSpPr/>
          <p:nvPr/>
        </p:nvGrpSpPr>
        <p:grpSpPr>
          <a:xfrm>
            <a:off x="95400" y="6537240"/>
            <a:ext cx="9807120" cy="246240"/>
            <a:chOff x="95400" y="6537240"/>
            <a:chExt cx="9807120" cy="246240"/>
          </a:xfrm>
        </p:grpSpPr>
        <p:sp>
          <p:nvSpPr>
            <p:cNvPr id="1133" name="Text Box 10"/>
            <p:cNvSpPr/>
            <p:nvPr/>
          </p:nvSpPr>
          <p:spPr>
            <a:xfrm>
              <a:off x="95400" y="6567480"/>
              <a:ext cx="353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6600"/>
                  </a:solidFill>
                  <a:latin typeface="Arial"/>
                </a:rPr>
                <a:t>ФЕДЕРАЛЬНАЯ СЛУЖБА ГОСУДАРСТВЕННОЙ СТАТИСТИКИ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11"/>
            <p:cNvSpPr/>
            <p:nvPr/>
          </p:nvSpPr>
          <p:spPr>
            <a:xfrm>
              <a:off x="3631320" y="6675480"/>
              <a:ext cx="585900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12"/>
            <p:cNvSpPr/>
            <p:nvPr/>
          </p:nvSpPr>
          <p:spPr>
            <a:xfrm>
              <a:off x="9490320" y="65372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DD06190-6A4B-4BAF-9156-A0AB0D41C12E}" type="slidenum">
                <a:rPr b="1" lang="ru-RU" sz="1000" spc="-1" strike="noStrike">
                  <a:solidFill>
                    <a:srgbClr val="006600"/>
                  </a:solidFill>
                  <a:latin typeface="Arial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5"/>
          <p:cNvSpPr/>
          <p:nvPr/>
        </p:nvSpPr>
        <p:spPr>
          <a:xfrm>
            <a:off x="819000" y="907920"/>
            <a:ext cx="84218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Разработан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 методические указания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по проведению годовых и квартальных (месячных) расчетов          стоимости и индексов физического объема производства продукции сельского хозяйства в разрезе категорий хозяйст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по проведению годовых и текущих расчетов объемо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производства продукции растениеводства и животноводств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(в натуральном выражении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в разрезе категорий хозяйст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по проведению годовых и текущих расчетов объемо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реализации продукции растениеводства и животноводства (в натуральном выражении) в разрезе категорий хозяйст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по проведению годовых расчетов объема расхода кормо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скоту и птице в разрезе категорий хозяйст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Group 6"/>
          <p:cNvGrpSpPr/>
          <p:nvPr/>
        </p:nvGrpSpPr>
        <p:grpSpPr>
          <a:xfrm>
            <a:off x="95400" y="6537240"/>
            <a:ext cx="9807120" cy="246240"/>
            <a:chOff x="95400" y="6537240"/>
            <a:chExt cx="9807120" cy="246240"/>
          </a:xfrm>
        </p:grpSpPr>
        <p:sp>
          <p:nvSpPr>
            <p:cNvPr id="1138" name="Text Box 7"/>
            <p:cNvSpPr/>
            <p:nvPr/>
          </p:nvSpPr>
          <p:spPr>
            <a:xfrm>
              <a:off x="95400" y="6567480"/>
              <a:ext cx="353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6600"/>
                  </a:solidFill>
                  <a:latin typeface="Arial"/>
                  <a:ea typeface="Arial"/>
                </a:rPr>
                <a:t>ФЕДЕРАЛЬНАЯ СЛУЖБА ГОСУДАРСТВЕННОЙ СТАТИСТИКИ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8"/>
            <p:cNvSpPr/>
            <p:nvPr/>
          </p:nvSpPr>
          <p:spPr>
            <a:xfrm>
              <a:off x="3631320" y="6675480"/>
              <a:ext cx="585900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9"/>
            <p:cNvSpPr/>
            <p:nvPr/>
          </p:nvSpPr>
          <p:spPr>
            <a:xfrm>
              <a:off x="9490320" y="65372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E09DD99-800C-4F6B-AA8C-0C59A4B0AF77}" type="slidenum">
                <a:rPr b="1" lang="ru-RU" sz="1000" spc="-1" strike="noStrike">
                  <a:solidFill>
                    <a:srgbClr val="006600"/>
                  </a:solidFill>
                  <a:latin typeface="Arial"/>
                  <a:ea typeface="Arial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1142" name="Text Box 3"/>
          <p:cNvSpPr/>
          <p:nvPr/>
        </p:nvSpPr>
        <p:spPr>
          <a:xfrm>
            <a:off x="1927080" y="692280"/>
            <a:ext cx="7777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целях организации работ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о пересчету динамических ряд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ан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Алгоритмы пересчета динамических рядов отдельных показателей, а также сопряженных с ними показателей по сельскому хозяйству за 1996-2007 годы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граммные средства для проведения пересчета данных ретроспективных динамических рядов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График пересчета динамических ряд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4"/>
          <p:cNvSpPr/>
          <p:nvPr/>
        </p:nvSpPr>
        <p:spPr>
          <a:xfrm>
            <a:off x="2435400" y="11444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Group 9"/>
          <p:cNvGrpSpPr/>
          <p:nvPr/>
        </p:nvGrpSpPr>
        <p:grpSpPr>
          <a:xfrm>
            <a:off x="95400" y="6537240"/>
            <a:ext cx="9807120" cy="246240"/>
            <a:chOff x="95400" y="6537240"/>
            <a:chExt cx="9807120" cy="246240"/>
          </a:xfrm>
        </p:grpSpPr>
        <p:sp>
          <p:nvSpPr>
            <p:cNvPr id="1145" name="Text Box 10"/>
            <p:cNvSpPr/>
            <p:nvPr/>
          </p:nvSpPr>
          <p:spPr>
            <a:xfrm>
              <a:off x="95400" y="6567480"/>
              <a:ext cx="353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6600"/>
                  </a:solidFill>
                  <a:latin typeface="Arial"/>
                </a:rPr>
                <a:t>ФЕДЕРАЛЬНАЯ СЛУЖБА ГОСУДАРСТВЕННОЙ СТАТИСТИКИ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11"/>
            <p:cNvSpPr/>
            <p:nvPr/>
          </p:nvSpPr>
          <p:spPr>
            <a:xfrm>
              <a:off x="3631320" y="6675480"/>
              <a:ext cx="585900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12"/>
            <p:cNvSpPr/>
            <p:nvPr/>
          </p:nvSpPr>
          <p:spPr>
            <a:xfrm>
              <a:off x="9490320" y="65372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B3DEB33-A401-4079-8AAB-69EFCEF8B717}" type="slidenum">
                <a:rPr b="1" lang="ru-RU" sz="1000" spc="-1" strike="noStrike">
                  <a:solidFill>
                    <a:srgbClr val="006600"/>
                  </a:solidFill>
                  <a:latin typeface="Arial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11:12:27Z</dcterms:created>
  <dc:creator>Andrey Slyusarenko</dc:creator>
  <dc:description/>
  <dc:language>en-US</dc:language>
  <cp:lastModifiedBy>Ленник Антон Владимирович</cp:lastModifiedBy>
  <cp:lastPrinted>2015-06-09T06:38:09Z</cp:lastPrinted>
  <dcterms:modified xsi:type="dcterms:W3CDTF">2015-06-09T07:56:23Z</dcterms:modified>
  <cp:revision>1102</cp:revision>
  <dc:subject/>
  <dc:title>No Slide Title</dc:title>
</cp:coreProperties>
</file>