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560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360" y="943560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D0F6-95AC-4B20-A1DB-4C72D8F73A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0C66-1FC8-4A58-A24B-00A0FBC51DF3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78AA-D326-406C-B4B2-7DDDA10A517A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034C-1470-4AF1-9E79-097820CA10E2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A74D-C373-4DE4-9017-BC2CF48643BC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42BB-2846-4B6C-A781-4DFDBAF505A4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88F4-D7CD-47D5-ABD7-B10844BF6711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4F87-4EAA-48AE-868F-85AEBBACB3BD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F655-1106-41B6-B877-E92FC744A280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8A1-EE32-46F3-A01A-FA999A40E828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193D-B34D-4C2E-A0AB-F0EFAC40BF74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98A-CB30-47E7-803F-2A465BE8956F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D32C-30FA-4B6A-9F04-39DA31E2D153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C3F4-1BBF-4641-ADBE-4856EFD0ACE8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0315-DDB9-44B6-B114-EB89B44428F9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997-AED3-42AA-BAE7-1D070B7C20C4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659-55E4-4158-BB2D-E156CB6208C9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1120" y="4719600"/>
            <a:ext cx="54417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3E9F-9E45-47F9-9BBA-6F0E645EE826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CBC-C10D-4036-BC5A-0152332E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D92-4657-4C82-B9A1-5B82812A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51D-EFBC-402C-8E7A-0F423AA8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8EF-1526-42DB-8842-94893F4D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671-A6FD-45AD-8FFD-E2EF92F3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4C8-FA63-4087-A27D-CF56CB69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A30-5B8D-42A0-AF8F-B8F4496D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B74-5F70-462E-9C9A-3478FB14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813-7080-4883-9B43-BFEB4BF2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CE1-62EA-48D3-8EA6-E309E932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477-A920-4B4A-AF70-B4D97A1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25D-3898-47BA-BC74-2409145A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307-B5F6-42F6-8041-7D02C292E5E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1268280"/>
            <a:ext cx="76723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arrying out the Structural Survey in agri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 the inter-census peri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- experience of Po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Barbara Domaszewicz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Agriculture Department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Central Statistical Office of Pola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39640" y="1752120"/>
            <a:ext cx="7672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re used for updating of the statistical regi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re used to replace statistical data (to diminish the response burden; definitions are more-less harmoniz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re used for comparison’s analysis – cross check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llow for close co-operation of statistical services with administrative register holders – collected once, used many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dministrative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39640" y="1844280"/>
            <a:ext cx="76723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gger then usual sample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for regular surveys sample size amounts around 1-3% of agricultural far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for FSS – thanks to the Eurostat grants and due to the high precision requirements – about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ortant source of data for labour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the main source of information concerning  working in agriculture;  in other statistical survey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ation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of farm owners/farm users is very sma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Advantage of the F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2205000"/>
            <a:ext cx="76723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or the AC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t the lowest level of administrative division of the country (LAU 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 depht thematic public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or the F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nly for the country level – NUTS 0 and  for NUTS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ata publis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640" y="1752120"/>
            <a:ext cx="7672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dividual data are trensferred to EURO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he type of farm and its economic size calculated based on the results of the F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 very impor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llows for the international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llows to observe the influence of the Common Agricultural Policy (CAP) on the development of farms in between censuses and FSS – sample (over time), as well as in individual regions within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rm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2060280"/>
            <a:ext cx="76723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41472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oint commitment of all interested parties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here is a M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upport of top management in the office facilitates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cess of development of agricultural stat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ystematic monitoring i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ood knowledge and inventory of the international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tional standards and requirements – enable to sp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ne statistical language and guarantee the prog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raining of statisticians and improvement of statistical literacy among data users is cru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2080" indent="4147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nclusions and recommendations – based on own experience (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2060280"/>
            <a:ext cx="76723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236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urvey evaluating rather the structure of agricultural farm then the sown area or livest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urvey assessing the impact of the Common Agricultural Policy on the country agri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ta are surveyed according to the seat of farm and seat of the farm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sibility to use the administrative data – either to update the frame or to replace the statistical dat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nclusions and recommendations – based on own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2060280"/>
            <a:ext cx="76723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236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act of the CAP on the Polish agriculture – based on the results of the Farm Structure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2232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ncentration and regionalization of agricultural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2232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cializ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of agricultural fa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2232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erniz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of fa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nclusions and recommendations – based on own experience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ctural changes in the Polish agri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Symbol zastępczy zawartości 6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9640" y="2708280"/>
            <a:ext cx="76723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바탕"/>
                <a:ea typeface="바탕"/>
              </a:rPr>
              <a:t>Thank you fo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276280"/>
            <a:ext cx="76723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or countries applying for the EU Membership, the need of having statistical data is most important in the process of negot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he adjustment process to the EU requirements created necessity to increase information sources in scope of agriculture statistics and the need of change the system of agricultural statistical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troduction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9640" y="2276640"/>
            <a:ext cx="76723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U agriculture statistics face the new challenges connected among others with the changes in the Common Agriculture Policy (CAP) or appearing of diseases (BSE, bird flu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ew issues included in the agricultural statistics are of the interdisciplinary nature (rural development, socio-demographic issues, agro-environmental indicators, food secur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troduction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640" y="1752480"/>
            <a:ext cx="76723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gu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EC) No 1166/2008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 th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ope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rlia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nd of th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unc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19 November 2008 on farm structure surveys and the survey on agricultural production methods and repealing Council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ion (EEC) No 571/88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2010, 2013, 2016 –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liga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to carry out farm structure surve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SS in 2010 –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ull-scope survey - c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SS in 2013, 2016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ample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SS – legal b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640" y="2060280"/>
            <a:ext cx="76723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ensure the information data base on agricultural holdings and connected households necessary for realization of the national, regional and local agricultural and social policy in the country side ( in rural are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analyse the changes in agriculture between the census and particular F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fulfill obligations toward Eurostat and other international organizations like FAO and OECD concerning agricultural inform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he goal of the FSS in between the cens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9640" y="2060280"/>
            <a:ext cx="76723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update the statistical register of agricultural holdings created after the census and to prepare the sampling frame for multi-thematic agricultural surveys in following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sure comparable statistics by using standard classification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(international comparisons and in between different surveys in the count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he goal of the FSS in between the censuse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1484280"/>
            <a:ext cx="76723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for the survey –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sine qua no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to have a good resul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fine the needs of data us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fine the scope of the survey – the farm definitione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shold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and the data to be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nduct dialog between different parties in the statistical needs and pos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ecessary underta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11280" y="1484280"/>
            <a:ext cx="76723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sure the financial resources required for the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urostat grants for Member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 need for the special national legal act – after accession EU Reulation is applyied as such to the acquis communautaire of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inancial suport from the Ministry of Agriculture as the main data 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ecessary undertaing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9640" y="2205000"/>
            <a:ext cx="76723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gricultural Census 2002 – paper questionnaires, OC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SS 2005 – paper questionnaires – OC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SS 2007 – paper questionnaires, OCR, CATI and internet for the first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gricultural Census 2010 – CAxI (CAPI, CATI, CA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SS 2013, 2016  – CAx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ymbol zastępczy stopki 3"/>
          <p:cNvSpPr/>
          <p:nvPr/>
        </p:nvSpPr>
        <p:spPr>
          <a:xfrm>
            <a:off x="2124000" y="62150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nference „The first 2011 General Agricultural Census in the Republic of Moldova”, 17-18 June 2015, Chisi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ata collectio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7:26:59Z</dcterms:created>
  <dc:creator>Domaszewicz Barbara</dc:creator>
  <dc:description/>
  <dc:language>en-US</dc:language>
  <cp:lastModifiedBy>Domaszewicz Barbara</cp:lastModifiedBy>
  <cp:lastPrinted>2015-06-11T12:37:04Z</cp:lastPrinted>
  <dcterms:modified xsi:type="dcterms:W3CDTF">2015-06-11T13:02:43Z</dcterms:modified>
  <cp:revision>62</cp:revision>
  <dc:subject/>
  <dc:title>Slajd 1</dc:title>
</cp:coreProperties>
</file>