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B9F-FA4C-4011-9C55-05FB4789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CD0-30DD-494A-BB0A-AF8BBB0A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58E-B2C9-4D92-A8CC-31B27811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29A-C818-4F41-B6F3-A1855409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6AF5-3153-4EC1-80C9-60521FF9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4AB3-A599-4C22-B64D-31EC50E6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CD43-6961-4DCA-A8FF-6B406FE4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2631-B784-421C-99BA-CA5957F3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0CFA-812B-40E6-8000-57B0E220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81E-BFC8-4DFA-B1B1-D49F21D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2A4B-5B77-4F70-8176-EAEB7F9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77A-6832-4572-BA94-36698AF6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AA6-2261-4E05-BD8C-FB7869B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214-BDD4-43F0-842F-9B35EB3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F210-7BA5-4DA7-A90A-F6145DE5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8396-4F14-4D65-A2D6-03B73987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C78C-987B-4A66-A2A3-2CFEBF8F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F35F-08AA-405B-B6B8-F3CA895F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ECC9-3C33-4DD0-AB7F-269E281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7D38-8557-4C99-B608-20000A8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6CC0-DA89-46DA-9D56-631D257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624D-9025-4149-A6CF-D93F2D3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4F7-E5EC-4E7B-A5C5-80ECBC31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CBCE-FBFE-4BFF-9C7D-252A974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B28D-EE43-4162-B39C-7314DBB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CC04-C938-435F-A7DC-DF9BC9A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FDC1-9821-4F2A-B2F6-047C9D0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FA25-15E3-482B-9614-10E00694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0A18-791F-4094-BBB2-4EFF8A53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19C6-0D02-4E67-A5E5-21ED07E9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FDD-2BE2-4C5D-9BD3-4BF4723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C1B-63C1-4CDE-B870-992AC03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6A4-7B24-471C-B4EB-2AE3609D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4E9-C5C8-40C9-8D65-F7F2D3F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810-CF61-4311-8C9D-50D65C5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3C2-FF0D-48B5-9017-70B2872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1E7-2B43-4550-9511-A7AFF17AF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EDE-D47C-4176-9314-3007808B59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F3B-B7FE-429A-9208-C123A11263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0240"/>
            <a:ext cx="7315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ROUL NA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ONAL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TATISTIC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85800"/>
            <a:ext cx="79250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GISTRUL STATISTIC AL PRODUC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ĂTORILOR AGRICOLI – RSP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Chişinău Moldova 17 – 18 Iunie 201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tre Vasile – Expert International IT – U.N.F.A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22860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ructura unei înregistrări a RS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4440" indent="-22860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MEC – dimensiunea economic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total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a exploa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MECS – dimensiunea economic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corespunzătoare sectorului veg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MECA – dimensiunea economic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corespunzătoare sectorului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IIO – codul statistic atribuit exploa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lor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T – statutul juridic al exploa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AT – suprafata total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AU – suprafata agricol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utilizat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IMP – suprafata total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î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RADINI – suprafata total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 ling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cas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 gra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ABIL – terenul ar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SUNI – p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VEZI – plan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pom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68120"/>
                <a:tab algn="l" pos="3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UCI – plan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 nucif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473-5C3B-4DB1-B0C6-F9EA38FEF5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ructura unei înregistrări a RS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UCTIFERI – plan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bu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i fructife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II – plan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 vitic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MANENTE – total culturi perman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IUPERCI –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suprafaţ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mp. a ciuperc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i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OVINE – total bo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ORCINE – total porc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VINE – total o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PRINE – total capr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BALINE – total caba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SARI – total p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E17-B424-49F5-B8D2-134F06796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3808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ructura unei înregistrări a RS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748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EPURI – total iep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8748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LBINE – familii de al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8748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LANA – animale de blan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8748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DNPIDNO – cod fiscal/CUI/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8748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DR – cod ra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57BD-5876-4E2B-B6AE-0CB1DB317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16002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Organizarea aplicaţiei informatic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suprafeţ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/ anim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Funcţii / 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1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Diverse interogari şi selecţii din baza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2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Vizualizare permanentă a bazei de date, cu scroll vertical şi orizo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Actualizare / Impor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(24 Agr./29 Ag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4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55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.5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Stratificare / Eşanti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040" y="380880"/>
            <a:ext cx="80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rea practi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 a aplicaţiei informa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FB54-C767-4E1E-A172-1CCAA6D29B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4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Prima versiune a Registrului Statistic al Producătorilor Agricol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SRP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a fost realizată pe baza rezultatelor Recensămîntului General Agrico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RGA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201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14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RPA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include toate exploataţiile agricole, respectând condiţiile specifice ale sectorului agricol din Moldov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14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Populaţia ţintă a registrului actual este reprezentată de toate cele 902.214 exploataţii agricole cercetate în cadrul RGA 2011, fără a fi definit un prag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14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RSPA este un registru statistic, specializat pentru domeniul agricol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5720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curt isto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BBBA-0A6C-42F8-9BD8-6509AFEE8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440" algn="just">
              <a:lnSpc>
                <a:spcPct val="15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SPA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este elementul cheie pentru sistemul statistic agricol, fiind general recunoscut faptul că un registru viabil şi actualizat  reprezintă baza pentru un sistem coerent al statisticilor în agricultură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1440" algn="just">
              <a:lnSpc>
                <a:spcPct val="15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RSPA are ca scop crearea şi intreţinerea , prin actualizări periodice şi din diferite surse a unei baze de date cu principalii indicatori ai exploataţiilor agricole ,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oferind în permanenţă date şi informaţii la zi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despre totalitatea exploataţiilor agrico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5720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c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FBBD-B2B0-42EC-8942-4CF6F3310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De asemenea, prin crearea RSPA este atins un alt scop foarte important, şi anume acela că registrul  astfel creat şi actualizat reprezintă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baza de eşantionare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pentru viitoarele anchete în agricultură ce folosesc ca metodă de investigaţie sondajul statistic sau observarea selectivă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şi în care o componentă principală o constituie eşantionul reprezentativ.</a:t>
            </a:r>
            <a:r>
              <a:rPr b="0" i="1" lang="ro-RO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57200"/>
            <a:ext cx="11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co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7496-691E-494A-977E-B1CEC15C1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Armonizarea RSPA în concordanţă cu  recomandările naţionale şi internaţionale, pentru asigurarea calităţii datelor rezultate din cercetările statistice cur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Îmbunătăţirea RSPA prin configurarea unui sistem de actualizare performant, pentru utilizarea surselor statistice, administrative, precum şi a legăturii  cu Registrul Animalelor şi Registrul Digital Agricol dezvoltate de Centrul Informaţional Agric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5720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7FE4-1900-45DB-A22E-EE66BC3F6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Caracteristicile  incluse în RSPA sunt 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2 tipuri :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1" i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Caracteristici generale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care includ: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Caracteristicile de identificare: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numele şi adresa exploataţiei,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statutul juridic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codul fiscal/codul unic de identificare pentru unitatea cu personalitate juridică, codul numeric personal al capului exploataţiei pentru exploataţia agricolă individuală, raionul si regiun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Caracteristicile demografice: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informaţii legate de înfiinţarea sau încetarea activităţii exploataţiilor agricole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Caracteristicile economice: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dimensiunea economic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808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Lista variabilelor incluse in RSP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660-55CA-4E18-97D0-314B26A21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Caracteristici agricol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suprafaţa agricolă utilizată, suprafaţa totală , terenul in cimp, terenul pe linga casa si gradini, terenul arabil, păşuni, livezi, nuci, plantaţiile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bu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şti fructiferi, plantaţiile viticole, ciupercării, efectivele de animale pe principalele specii (bovine, porcine, ovine, caprine, cabaline, păsări, iepuri, albine, animale de blană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Lista variabilelor incluse in RSP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523-040B-4FA8-8171-15043027C4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04920"/>
            <a:ext cx="7239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8960" y="190512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Componentele înregistrărilor RSPA sunt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Cheia unică de identificare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a RSPA est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dul CSID – unic, asociat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fiecărei exploatatii agricole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Datele dinamice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sunt informaţiile care fac posibile crearea, actualizarea şi înlocuirea pe parcursul procesului de management al RSPA. În principal, datele dinamice coincid cu cele din tabelul de variabile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Datele relaţionale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constau dintr-un cod sau cheie de legătură –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UIIO,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codul fiscal / CUI / CNP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 care formează un sistem relaţional pentru înregistrările din RSPA in cadrul legăturii cu alt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rse (anchete, </a:t>
            </a:r>
            <a:r>
              <a:rPr b="0" i="1" lang="ro-RO" sz="2000" spc="-1" strike="noStrike">
                <a:solidFill>
                  <a:srgbClr val="000000"/>
                </a:solidFill>
                <a:latin typeface="Verdana"/>
              </a:rPr>
              <a:t>registr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699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ul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datelor în cadrul unei înregistrări a RSP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B51-9EF6-4D6E-AD27-1B6FADEA4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ructura unei înregistrări a RS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69800" y="2362320"/>
            <a:ext cx="73134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SID – cod unic asociat /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 atribu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iec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rei exploataţ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RMAPA – numarul map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RFORM – numarul formularului in cadrul map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UME – numele capului exploata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ei sau a societ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ăţ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i cu personalitate jurid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DRESA – ad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ITATE – locali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AION –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denumi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a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GIUNE –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denumi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giu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0246-B84E-428E-8E09-265EEE779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41:44Z</dcterms:created>
  <dc:creator>rga13</dc:creator>
  <dc:description/>
  <cp:keywords/>
  <dc:language>en-US</dc:language>
  <cp:lastModifiedBy>vasile.petre</cp:lastModifiedBy>
  <dcterms:modified xsi:type="dcterms:W3CDTF">2015-06-09T10:53:33Z</dcterms:modified>
  <cp:revision>102</cp:revision>
  <dc:subject/>
  <dc:title>IMPROVEMENT OF THE FARM REGISTE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91033</vt:lpwstr>
  </property>
</Properties>
</file>